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1651FE6-61A8-4C12-8E47-AB698F0B640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68A075E-9DAD-480F-A863-BF5E84C6528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DC157-DCF8-4001-8867-026B75D3CEF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6A605BB-E62C-4EE7-A970-AE08AEB2C6B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F2FFE-5CF1-492E-AFE3-4D7CA4BD104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A9E5F65-B4B4-452A-AC4D-B2719436268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A730E-3BB0-46D1-9F36-97F086A05D8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C27ACE3-DBB2-4551-88AB-3885B84755E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419A7-2A93-4223-8E87-8DAAC91A56E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17160B1-641B-4F43-89DA-2F37AFEA608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7B4CB-CDDC-4AB2-8D16-601D0D02920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BA4E7F1-7503-4373-8A03-1858E9CF79C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C7810-8BAE-47CE-BF1D-A585BA2210A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4A74E96-F097-4348-B0AF-4AC3E44C4FD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CA965-EFE3-4433-AD04-FDDA814274D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CC59D25-B6A6-46F2-B8FC-0A904099EA2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86FD9-2677-4925-917D-8914CA52EC7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486E15F-5F14-42D2-B157-8D216EC7649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28977-D112-4726-8F10-52260AC37B4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F83AE8A-D0DF-4403-8F6F-6D62E4092ED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E1D49-AC39-474D-8958-10A06CDB5FB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920420B-0504-4B74-A0D0-886DCDCE080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21762-EB2A-43B6-B7F8-C4D67715A3F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8BAD270-1FB7-443B-9DCA-569E1609048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8E3D2-EC3C-4FB3-98F5-EDE13DF8089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06C8920-FFC0-42EB-A30C-E099731F819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C277A-1A86-4104-9D9B-C0B53E36D14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32E44B6-BA7C-410D-9085-A162977BE03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F659E-395A-4367-BDDC-3A4EE02EE9F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42EB6EA-9BC3-4A8A-B8EC-00B64EEE249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07C3E-A393-41D1-886E-2E83ED568BC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4D1D817-2CE3-4D4C-ABF6-7C22F857DC6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F6286-97C2-471D-85FA-44F9D45E570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3AA36DA-46A2-4407-B01A-5127C830A2A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170F3-8FF5-405C-803E-985EA143732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5A73D52-0820-41B8-86A9-D443E80AEC9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43FDD-28A2-43C8-A92C-8D9FD3FE826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7CC6945-F6D8-4B32-B82E-04C68B67DC6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7A5E6-4DF4-4792-AC1E-D2E533FDF9A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0FFCDEE-A08B-430F-A1ED-4A5502E79F2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C6705-4DCB-419D-8F1F-9E6C0BB95DB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4559632-0A35-4664-8514-D143E467B53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2699C-DB81-4799-BF57-4ACA5D3AB6D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AC147EC-72F4-4325-81E5-606851E381C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EB95C-C1B6-49EA-871F-9160478000A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C405-B797-4316-B433-457D174BE9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1BB8-D5A9-4C5D-83B0-96299E07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B93E-005A-4AFD-B51E-93330B20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1426-CBF9-4BD7-9D5C-5A698F23C7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6FE8-70B3-4E40-ABBC-6C40E2AF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1AB0-C396-4342-9A20-4EB5CB31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E5C7-227F-4723-8815-262E02EE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115E-B575-41F4-A632-BB92B2A6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CB7C-610B-4D01-9A34-88DEADED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DF62-4B81-48D1-9B93-6F80EA97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2E87-623E-4071-8307-F1A7F02C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0E70-8E54-48E6-A69A-C804E7F1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92C58-ACF4-4909-8487-CD00A62CFEA7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763640" y="1636560"/>
            <a:ext cx="5715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1e9d1e"/>
                </a:solidFill>
                <a:latin typeface="Arial"/>
                <a:ea typeface="Arial"/>
              </a:rPr>
              <a:t>Câmara Temática de Inovação Tecn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6"/>
          <p:cNvSpPr/>
          <p:nvPr/>
        </p:nvSpPr>
        <p:spPr>
          <a:xfrm>
            <a:off x="2411280" y="444492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e9d1e"/>
                </a:solidFill>
                <a:latin typeface="Arial"/>
                <a:ea typeface="Arial"/>
              </a:rPr>
              <a:t>Brasília, 28 de fevereiro de 201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00000" y="11318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Questionário enviado aos representantes do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06723-A169-48A0-9969-4670DBABBD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CaixaDeTexto 14"/>
          <p:cNvSpPr/>
          <p:nvPr/>
        </p:nvSpPr>
        <p:spPr>
          <a:xfrm>
            <a:off x="468360" y="1924200"/>
            <a:ext cx="820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aixaDeTexto 15"/>
          <p:cNvSpPr/>
          <p:nvPr/>
        </p:nvSpPr>
        <p:spPr>
          <a:xfrm>
            <a:off x="468360" y="175896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7878de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Solicitação: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relação dos serviços/aplicativos disponíveis ou em desenvolvimento, com breve descr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nome comercial do aplicativo/serviço e/ou desenvolvim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classificação como serviço e/ou aplicativ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ões técnicas: estruturas de desenvolvimento e funcionamento, incluindo informações sobre a taxa de bits mínima e a ideal além de limitações ou restrições para funcionamento do serviço/aplicativo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ão para o usuár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faixa de funcionamento: se serviço/aplicativo está disponível para todas as faixas de serviço de radiodifusão sonora (FM, OM, OC, O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3748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simples: se o aplicativo/serviço está vinculado a uma programação de áudio e, nesse caso, se está compartilhando com o áudio um único serviç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composta: se o aplicativo/serviço pode ser vinculado simultanea-mente a todas as programações de áudio permitidas pelo sistema, ocupando uma única taxa de dado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lação de compromisso entre o áudio digital e os aplicativos/serviços (qualidade de áudio x aplicativo/serviç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localização do serviço: descrever em que portadoras OFDM estão localizados os serviços/aplicativos no siste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middleware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: se há a necessidade para uso do serviço/aplic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1ACD6-063E-4EF9-B3C3-1748D0B3121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68360" y="12430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tor: características básicas para acessar o aplicativo/serviço (ex: formato da tela, processador mais rápido, et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transmissor: serviço/aplicativo contido no transmissor digital ou há necessidade de aquisição de um equipamento ou software específic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ção: na recepção, o conteúdo transmitido  pode ser condicionado a um usuário específico por meio de um 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diciona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Qual a concepção de serviço e aplicativ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cerca da relação de compromisso entre o quantitativo de serviços/aplicativos e 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A96C7-3FDC-4701-809A-73AD8CB721D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28800" y="2239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plicativo: transmissão junto do conteúdo de um serviço/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: ocupa um canal específico, mesmo que seja acessado por meio de um outro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00000" y="1320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Aplicativo x Serviç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1FE4C-1193-4538-B520-804EC9DF44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900000" y="11318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F3C57-B9FE-46B5-8AE1-362A03C9915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1627200"/>
          <a:ext cx="8064360" cy="2906640"/>
        </p:xfrm>
        <a:graphic>
          <a:graphicData uri="http://schemas.openxmlformats.org/drawingml/2006/table">
            <a:tbl>
              <a:tblPr/>
              <a:tblGrid>
                <a:gridCol w="1079280"/>
                <a:gridCol w="2305080"/>
                <a:gridCol w="2951280"/>
                <a:gridCol w="1076400"/>
                <a:gridCol w="652320"/>
              </a:tblGrid>
              <a:tr h="7556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Service Data (PSD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ítulo da música e artista/ Título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st Experie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 de Disco/ Logomarca da Emissora/ Imagem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e Ale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igital de Alerta de Emergência e Informa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g Tagg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ção ao Comércio de Músi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Traff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ões de Tráfego e Map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- 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 and Information Servi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e Texto/ Notícias/ Clima/ Esport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Program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de emissoras de uma determinada á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 S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tividade de dados – serviço para celulares com rádio digital integra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6746E-7AF9-49D3-B012-C9251990F17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11280" y="1492200"/>
          <a:ext cx="7993080" cy="3274920"/>
        </p:xfrm>
        <a:graphic>
          <a:graphicData uri="http://schemas.openxmlformats.org/drawingml/2006/table">
            <a:tbl>
              <a:tblPr/>
              <a:tblGrid>
                <a:gridCol w="936360"/>
                <a:gridCol w="2448000"/>
                <a:gridCol w="2448000"/>
                <a:gridCol w="1008000"/>
                <a:gridCol w="1152720"/>
              </a:tblGrid>
              <a:tr h="4320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BS (Emergency Warning Broadcast System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de Transmissão de Aviso de Emergênc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sagens de Texto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com rolage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(DRM30) / 0,32 (DRM+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avançado com canal de retor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 -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desho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ns/animaçõ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G - Electronic Programme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a de Programação Eletrônic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eem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deo de baixa resolu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C (Canal de Mensagem de Tráfego)/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EG (Transport Protocol Experts Group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ão de tráfe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missão Transparente de Arquivo MOT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OT: Multimedia Object Transfer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colo para transmissão de arquivos/estruturas de diretórios,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i Broadcast Website ("Website de Emissora"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7"/>
          <p:cNvSpPr/>
          <p:nvPr/>
        </p:nvSpPr>
        <p:spPr>
          <a:xfrm>
            <a:off x="900000" y="9889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28800" y="1878120"/>
            <a:ext cx="73580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Levantar a capacidade de bits</a:t>
            </a:r>
            <a:r>
              <a:rPr b="0" lang="pt-BR" sz="1800" spc="-1" strike="noStrike">
                <a:solidFill>
                  <a:srgbClr val="7878de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úteis dos sistemas, de acordo com a largura de banda do canal e a configuração utili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- capacidade de um canal diretamente relacionado à largura de banda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do canal (B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Serviço     AM: B = 20kHz (HD)/1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FM: B = 200kHz (HD)/10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Metodologia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FA1AF-FD04-4334-BC45-C02ED47CE2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have esquerda 12"/>
          <p:cNvSpPr/>
          <p:nvPr/>
        </p:nvSpPr>
        <p:spPr>
          <a:xfrm>
            <a:off x="2411280" y="3652920"/>
            <a:ext cx="46080" cy="6476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647640"/>
              <a:gd name="textAreaBottom" fmla="*/ 64656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7"/>
                </a:cubicBezTo>
                <a:lnTo>
                  <a:pt x="10800" y="10673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4"/>
                  <a:pt x="10800" y="10927"/>
                </a:cubicBezTo>
                <a:lnTo>
                  <a:pt x="10800" y="21473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332000" y="915840"/>
            <a:ext cx="6243480" cy="4029120"/>
          </a:xfrm>
          <a:prstGeom prst="rect">
            <a:avLst/>
          </a:prstGeom>
          <a:ln w="0">
            <a:noFill/>
          </a:ln>
        </p:spPr>
      </p:pic>
      <p:sp>
        <p:nvSpPr>
          <p:cNvPr id="2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1BA66-8A1F-480F-B0AA-CC4321A6B4D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447920" y="923760"/>
            <a:ext cx="6248160" cy="4024440"/>
          </a:xfrm>
          <a:prstGeom prst="rect">
            <a:avLst/>
          </a:prstGeom>
          <a:ln w="0">
            <a:noFill/>
          </a:ln>
        </p:spPr>
      </p:pic>
      <p:sp>
        <p:nvSpPr>
          <p:cNvPr id="21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39F8C-381A-4674-BB64-68D17C81FD4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4480" y="988920"/>
            <a:ext cx="5853240" cy="3853080"/>
          </a:xfrm>
          <a:prstGeom prst="rect">
            <a:avLst/>
          </a:prstGeom>
          <a:ln w="0">
            <a:noFill/>
          </a:ln>
        </p:spPr>
      </p:pic>
      <p:sp>
        <p:nvSpPr>
          <p:cNvPr id="22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24D16-8BD2-44CA-BB27-66DA1102DFB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28800" y="192420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Obje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Histórico e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Planej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Descrição dos Servi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todolo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óximos Pas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3795B-28D3-4176-B931-556D50FCBC1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B0A5A-AC36-436C-BD0E-B5AB5E7B10C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736640" y="988920"/>
            <a:ext cx="585972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79F13-C87C-44F1-A61B-79AF7CF3EC5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tângulo 9"/>
          <p:cNvSpPr/>
          <p:nvPr/>
        </p:nvSpPr>
        <p:spPr>
          <a:xfrm>
            <a:off x="923760" y="12049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óximos pas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958680" y="1878120"/>
            <a:ext cx="7358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lidade do áudio (quantidade de bits necessários; codificador de fonte) e a disponibilidade para os diferentes serviços (AM e F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ntidade de serviços possíveis para cada serviço (simular casos prátic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3366ff"/>
                </a:solidFill>
                <a:latin typeface="Calibri"/>
              </a:rPr>
              <a:t>Middlewares -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ocessar e complementar a informaç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Levantamento sobre a convergência do rádio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aracterísticas mínimas para os receptor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B6131-4F5B-406E-B17E-1F93752D28F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00000" y="133344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Equipe do Rádio Digital – CG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Elza Maria Fernandes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elza.fernandes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Flávio Ferreira Lima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flavio.ferreira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Letícia Ribeiro Cardoso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leticia.cardoso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Gilvandson Costa Cavalcante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gilvandson.cavalcante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28800" y="192420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aprovada pelo CCRD na 1ª Reunião </a:t>
            </a:r>
            <a:r>
              <a:rPr b="1" lang="pt-BR" sz="1600" spc="-1" strike="noStrike">
                <a:solidFill>
                  <a:srgbClr val="2966ba"/>
                </a:solidFill>
                <a:latin typeface="Calibri"/>
              </a:rPr>
              <a:t>(23/10/201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09051-CD72-44CB-ADD8-ED71CFF8E5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28800" y="1924200"/>
            <a:ext cx="7358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ádio Digital – oport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4618D-0867-423B-B561-085200E87C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030320" y="2023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lhorar o áudio – sufici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Agregar serviços de dados – diferen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onvergência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Exclusão social ou oportunidade de inclusã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28800" y="171612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28/11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os assuntos a serem abord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Indicação de representantes (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MARC, ABRA/MACKENZIE, ABERT, ANATEL, ELETROS (PIONEER), MinC, ABIRD, MDIC, ABRAÇO NACIONAL e padrões de rádio digital testad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14/12/20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e funcionamento da Câm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9817D-F209-4101-97E1-A9DA4BD18B1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00000" y="1685880"/>
            <a:ext cx="73580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hecimento dos serviços e aplicativos existentes para cada sistema bem como o desenvolvimento de inovaç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2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ção das condições técnicas para a convergência do serviço de Televisão Digital com cada um dos sistemas de Rádio Digital em anál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98560" y="11271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lanej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88FFF-D531-4169-B823-7BD442111C4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26920" y="1492200"/>
            <a:ext cx="7358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oportunidades criadas a partir da implantação do Rádio Digital, além da melhoria n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r o que é serviço e apl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Levantar os serviços e os aplicativos disponíveis para cada padr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serviços/aplicativos estão ligados a programações, e se for este o caso, se os mesmos estão disponíveis para todas as programações com as mesmas característ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55640" y="98892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8583E-6B76-41B9-AF7A-A4CCC2064DE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00000" y="149220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 (continuação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ondições necessárias para acesso aos serviços e aplicativos (do ponto de vista do radiodifusor e do ouvint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aracterísticas dos </a:t>
            </a:r>
            <a:r>
              <a:rPr b="0" i="1" lang="pt-BR" sz="1800" spc="-1" strike="noStrike">
                <a:solidFill>
                  <a:srgbClr val="2966ba"/>
                </a:solidFill>
                <a:latin typeface="Calibri"/>
              </a:rPr>
              <a:t>middlewares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usados por cada sistema, a possibilidade de substituí-los pelo Ginga, ou mesmo acrescentá-lo, e as condições estabelecidas para essa inclusão/substitui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dicar os serviços básicos desejáveis em uma futura implantação do rádio digital e que características técnicas os receptores deveriam ter para acessá-l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15C0F-BAC0-4389-967D-D0664EC128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82720" y="1131840"/>
            <a:ext cx="61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0FAD0-A7D4-4907-BEEE-3FF2867194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tângulo 1"/>
          <p:cNvSpPr/>
          <p:nvPr/>
        </p:nvSpPr>
        <p:spPr>
          <a:xfrm>
            <a:off x="934920" y="1727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 possibilidade de convergência com a TV Digital e as condições para que isso oco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pecificar quais as condições para haver a convergência do sistema de rádio digital com o padrão de TV Digital adotado pelo Bras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terminar as modificações necessárias para cada um dos padr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as modificações identificadas são passíveis de atendimento e quais as condições estabelecidas por cada padrão para a sua realiza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Elza Maria Del Negro B.Fernandes</cp:lastModifiedBy>
  <cp:lastPrinted>2013-02-28T16:29:20Z</cp:lastPrinted>
  <dcterms:modified xsi:type="dcterms:W3CDTF">2013-02-28T16:47:33Z</dcterms:modified>
  <cp:revision>227</cp:revision>
  <dc:subject/>
  <dc:title>Slide 1</dc:title>
</cp:coreProperties>
</file>