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8E8-93F1-44FB-BD83-7AAFBAA65C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FC44-C3EB-4D00-A4FE-E1F7B8F412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6DB7-42AE-4750-A76E-970AC87198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B2EB-38C6-4075-A674-505ADBD852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5D17-69DC-4812-8343-940E095672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9D6-5683-46D5-B91A-B579534358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23D9-EA64-40CC-9620-10DC0291AD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EE48-E819-474C-82BF-4ED949E6BF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5777-0B80-4488-A677-E03E81DC60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432-E680-4249-9797-C6ED1C6F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4F0-0FAC-434A-A918-43E2FF12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FD6-978F-4983-AB4C-EC79244B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F3A-F504-49F9-A7DA-7868AAE0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CB1-71A0-464D-B72A-AAB2F30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2B1-E9DD-49DB-B837-27F7454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D94-593C-470E-B75A-9838543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92B-2812-492D-A7CB-3459543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A3B-094C-4517-9F6C-135796CC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2D7-674E-43B1-82BF-996171B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1A1-0D3C-4309-A287-58ABF47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08C-B1F8-474E-938D-71C5CE3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497D-8F12-459A-8EA8-82F99F5CC11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E19-1806-49D3-8A99-E0D26F44064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385-4653-4FD8-AA2D-0A6CC6083E1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9" descr="blog-radio-digital.jpg"/>
          <p:cNvPicPr/>
          <p:nvPr/>
        </p:nvPicPr>
        <p:blipFill>
          <a:blip r:embed="rId3"/>
          <a:stretch/>
        </p:blipFill>
        <p:spPr>
          <a:xfrm>
            <a:off x="5148360" y="2349360"/>
            <a:ext cx="268920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1" descr="rádio digital.png"/>
          <p:cNvPicPr/>
          <p:nvPr/>
        </p:nvPicPr>
        <p:blipFill>
          <a:blip r:embed="rId4"/>
          <a:stretch/>
        </p:blipFill>
        <p:spPr>
          <a:xfrm>
            <a:off x="1116000" y="2349360"/>
            <a:ext cx="2457360" cy="1656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12"/>
          <p:cNvSpPr/>
          <p:nvPr/>
        </p:nvSpPr>
        <p:spPr>
          <a:xfrm>
            <a:off x="576360" y="1393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Comissão Temática sobre Política Industrial (CCRD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1"/>
          <p:cNvSpPr/>
          <p:nvPr/>
        </p:nvSpPr>
        <p:spPr>
          <a:xfrm>
            <a:off x="3490920" y="51814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AD8-4212-45E1-98B4-148A8E547A4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uniões real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tângulo de cantos arredondados 13"/>
          <p:cNvSpPr/>
          <p:nvPr/>
        </p:nvSpPr>
        <p:spPr>
          <a:xfrm>
            <a:off x="1332000" y="2349360"/>
            <a:ext cx="6696000" cy="2303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14"/>
          <p:cNvSpPr/>
          <p:nvPr/>
        </p:nvSpPr>
        <p:spPr>
          <a:xfrm>
            <a:off x="1619280" y="2979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28 de nov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06 de dez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3F16-B7C6-4880-9969-61D0DE194B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tidade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13"/>
          <p:cNvSpPr/>
          <p:nvPr/>
        </p:nvSpPr>
        <p:spPr>
          <a:xfrm>
            <a:off x="1258920" y="2349360"/>
            <a:ext cx="6697800" cy="20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4"/>
          <p:cNvSpPr/>
          <p:nvPr/>
        </p:nvSpPr>
        <p:spPr>
          <a:xfrm>
            <a:off x="161928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LE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11"/>
          <p:cNvSpPr/>
          <p:nvPr/>
        </p:nvSpPr>
        <p:spPr>
          <a:xfrm>
            <a:off x="125892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olicitação a algumas entidades de posicionamento sobre os padrões de rádi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564000" y="249228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I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16"/>
          <p:cNvSpPr/>
          <p:nvPr/>
        </p:nvSpPr>
        <p:spPr>
          <a:xfrm>
            <a:off x="572436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Tell 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D92-342C-4A6C-8491-DBEE713B7D7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12"/>
          <p:cNvSpPr/>
          <p:nvPr/>
        </p:nvSpPr>
        <p:spPr>
          <a:xfrm>
            <a:off x="1763640" y="103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lató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13"/>
          <p:cNvSpPr/>
          <p:nvPr/>
        </p:nvSpPr>
        <p:spPr>
          <a:xfrm>
            <a:off x="503280" y="1700280"/>
            <a:ext cx="8137440" cy="374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4"/>
          <p:cNvSpPr/>
          <p:nvPr/>
        </p:nvSpPr>
        <p:spPr>
          <a:xfrm>
            <a:off x="928800" y="2898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Econô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7"/>
          <p:cNvSpPr/>
          <p:nvPr/>
        </p:nvSpPr>
        <p:spPr>
          <a:xfrm>
            <a:off x="4067280" y="2924280"/>
            <a:ext cx="446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Custo/Prazo de Implantação de uma rádio comercial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ação para tratar do passivo de receptores analógicos e custos envolv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desenvolvimento tecnológico no paí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Fabricant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Radiodifusor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plano de negócios para os fabric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 plano de negócios para cada tipo de radiodifus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8"/>
          <p:cNvSpPr/>
          <p:nvPr/>
        </p:nvSpPr>
        <p:spPr>
          <a:xfrm>
            <a:off x="2771640" y="1824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formações solicitadas às ent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1"/>
          <p:cNvSpPr/>
          <p:nvPr/>
        </p:nvSpPr>
        <p:spPr>
          <a:xfrm>
            <a:off x="3360600" y="23954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Visão acerca dos padr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BB13-3753-449D-93A9-AF391A4DB5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2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9"/>
          <p:cNvSpPr/>
          <p:nvPr/>
        </p:nvSpPr>
        <p:spPr>
          <a:xfrm>
            <a:off x="755640" y="1916280"/>
            <a:ext cx="7632720" cy="35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2"/>
          <p:cNvSpPr/>
          <p:nvPr/>
        </p:nvSpPr>
        <p:spPr>
          <a:xfrm>
            <a:off x="1116000" y="2060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Parte das entidades ainda não se posiciona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ntre as entidades que apresentaram posicionamento, apontamos alguns tópicos a serem considera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1116000" y="29210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ronograma de implantação do novo padrão, para que todos envolvidos  possam cumprir suas respectivas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O padrão não deve ser híbrido, visando permitir  a exportação dos transmissores e proporcionar uma melhor escala econômica e precificação para o mercado consumid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licitação de estudos sobre a digitalização da faixa de frequência de Ondas Cu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84C7-912B-4B47-A382-FB31E332BC9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"/>
          <p:cNvSpPr/>
          <p:nvPr/>
        </p:nvSpPr>
        <p:spPr>
          <a:xfrm>
            <a:off x="1224000" y="18050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DRM e Tell H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9"/>
          <p:cNvSpPr/>
          <p:nvPr/>
        </p:nvSpPr>
        <p:spPr>
          <a:xfrm>
            <a:off x="1224000" y="2540160"/>
            <a:ext cx="6696000" cy="18968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2"/>
          <p:cNvSpPr/>
          <p:nvPr/>
        </p:nvSpPr>
        <p:spPr>
          <a:xfrm>
            <a:off x="1511280" y="2625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mbas as entidades enviaram informações acerca de mercado, custos e prazos de implantação e plano de negócio para a digitalização do rá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ssas informações estão sendo avali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15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5D8F-1C2B-43AC-B68F-F8C7FE35E3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caminh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9"/>
          <p:cNvSpPr/>
          <p:nvPr/>
        </p:nvSpPr>
        <p:spPr>
          <a:xfrm>
            <a:off x="1224000" y="2565360"/>
            <a:ext cx="6696000" cy="1752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"/>
          <p:cNvSpPr/>
          <p:nvPr/>
        </p:nvSpPr>
        <p:spPr>
          <a:xfrm>
            <a:off x="1511280" y="273204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 coordenação do subgrupo CCRD1 irá consolidar todos os posicionamentos das entidades e formulará suas considerações acerca do padrão a ser adot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Será realizada reunião para apresentar o relatório final ao subgru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E27D-8184-47A9-BD84-09ED656904D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12"/>
          <p:cNvSpPr/>
          <p:nvPr/>
        </p:nvSpPr>
        <p:spPr>
          <a:xfrm>
            <a:off x="1763640" y="2433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Obrig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11"/>
          <p:cNvSpPr/>
          <p:nvPr/>
        </p:nvSpPr>
        <p:spPr>
          <a:xfrm>
            <a:off x="3490920" y="515772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1:36:32Z</dcterms:created>
  <dc:creator>Rafael Andrade Reis de Araújo</dc:creator>
  <dc:description/>
  <dc:language>en-US</dc:language>
  <cp:lastModifiedBy>Otavio Viegas Caixeta</cp:lastModifiedBy>
  <dcterms:modified xsi:type="dcterms:W3CDTF">2013-02-28T17:23:26Z</dcterms:modified>
  <cp:revision>37</cp:revision>
  <dc:subject/>
  <dc:title>Apresentação do PowerPoint</dc:title>
</cp:coreProperties>
</file>