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62FA-A3E4-41CB-BA28-9D4209E413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36C8-1D7D-45BC-9740-598DF18EAA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6A14-BA76-43DD-A2B8-36AAC00425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6570-CC08-4E5E-9857-ED87E9C866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8A18-5995-43A6-B155-57DA151531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AAE-BF1A-49D0-B8F8-6DAFDBABDD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7A6A-CC1C-49B8-904F-7A9CA768AD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777-F792-48C0-9A08-D7BA8A1D8E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C16C-FBDF-429C-8D3D-CE6D5E2FECA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93E-B4A3-4416-934C-F4DD1E39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D65-A0C0-4BBA-983D-C26CE502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8B7-86D8-492E-9E86-80072E5D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5F1-9591-47C4-9005-4CE8E2E2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380-2C02-4541-8361-9E6EFEE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E1D-178C-409A-A293-494A5104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8D3-CF46-4CCE-82AE-E7D72E16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6D8-7C50-4C3C-BBE0-AD604B8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CDE-0DDB-49D1-BAC8-4B505AA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E24-2A03-4706-AC85-E790892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A17-C238-4803-B1FB-7729AC74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B01-F695-450F-AFB0-4CCE473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D68C-9A98-4A43-96AA-4EFCA7FC0A9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B90E-0D82-415B-BA89-2232E308EDC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CA6C-88DF-4203-A367-2DD5E47CF86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9" descr="blog-radio-digital.jpg"/>
          <p:cNvPicPr/>
          <p:nvPr/>
        </p:nvPicPr>
        <p:blipFill>
          <a:blip r:embed="rId3"/>
          <a:stretch/>
        </p:blipFill>
        <p:spPr>
          <a:xfrm>
            <a:off x="5148360" y="2349360"/>
            <a:ext cx="268920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1" descr="rádio digital.png"/>
          <p:cNvPicPr/>
          <p:nvPr/>
        </p:nvPicPr>
        <p:blipFill>
          <a:blip r:embed="rId4"/>
          <a:stretch/>
        </p:blipFill>
        <p:spPr>
          <a:xfrm>
            <a:off x="1116000" y="2349360"/>
            <a:ext cx="2457360" cy="1656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12"/>
          <p:cNvSpPr/>
          <p:nvPr/>
        </p:nvSpPr>
        <p:spPr>
          <a:xfrm>
            <a:off x="576360" y="1393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Comissão Temática sobre Política Industrial (CCRD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1"/>
          <p:cNvSpPr/>
          <p:nvPr/>
        </p:nvSpPr>
        <p:spPr>
          <a:xfrm>
            <a:off x="3490920" y="51814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4E1A-6C35-4596-926D-0BEAFE2F277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uniões real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tângulo de cantos arredondados 13"/>
          <p:cNvSpPr/>
          <p:nvPr/>
        </p:nvSpPr>
        <p:spPr>
          <a:xfrm>
            <a:off x="1332000" y="2349360"/>
            <a:ext cx="6696000" cy="2303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14"/>
          <p:cNvSpPr/>
          <p:nvPr/>
        </p:nvSpPr>
        <p:spPr>
          <a:xfrm>
            <a:off x="1619280" y="2979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28 de nov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06 de dez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900-F026-4D2E-B1E0-50A11F9D391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tidade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13"/>
          <p:cNvSpPr/>
          <p:nvPr/>
        </p:nvSpPr>
        <p:spPr>
          <a:xfrm>
            <a:off x="1258920" y="2349360"/>
            <a:ext cx="6697800" cy="20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4"/>
          <p:cNvSpPr/>
          <p:nvPr/>
        </p:nvSpPr>
        <p:spPr>
          <a:xfrm>
            <a:off x="161928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LE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11"/>
          <p:cNvSpPr/>
          <p:nvPr/>
        </p:nvSpPr>
        <p:spPr>
          <a:xfrm>
            <a:off x="125892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olicitação a algumas entidades de posicionamento sobre os padrões de rádi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564000" y="249228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I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16"/>
          <p:cNvSpPr/>
          <p:nvPr/>
        </p:nvSpPr>
        <p:spPr>
          <a:xfrm>
            <a:off x="572436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Tell 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B5F8-FE9A-4F81-8B89-225C70BBCA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12"/>
          <p:cNvSpPr/>
          <p:nvPr/>
        </p:nvSpPr>
        <p:spPr>
          <a:xfrm>
            <a:off x="1763640" y="103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lató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13"/>
          <p:cNvSpPr/>
          <p:nvPr/>
        </p:nvSpPr>
        <p:spPr>
          <a:xfrm>
            <a:off x="503280" y="1700280"/>
            <a:ext cx="8137440" cy="374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4"/>
          <p:cNvSpPr/>
          <p:nvPr/>
        </p:nvSpPr>
        <p:spPr>
          <a:xfrm>
            <a:off x="928800" y="2898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Econô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7"/>
          <p:cNvSpPr/>
          <p:nvPr/>
        </p:nvSpPr>
        <p:spPr>
          <a:xfrm>
            <a:off x="4067280" y="2924280"/>
            <a:ext cx="446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Custo/Prazo de Implantação de uma rádio comercial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ação para tratar do passivo de receptores analógicos e custos envolv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desenvolvimento tecnológico no paí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Fabricant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Radiodifusor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plano de negócios para os fabric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 plano de negócios para cada tipo de radiodifus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8"/>
          <p:cNvSpPr/>
          <p:nvPr/>
        </p:nvSpPr>
        <p:spPr>
          <a:xfrm>
            <a:off x="2771640" y="1824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formações solicitadas às ent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1"/>
          <p:cNvSpPr/>
          <p:nvPr/>
        </p:nvSpPr>
        <p:spPr>
          <a:xfrm>
            <a:off x="3360600" y="23954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Visão acerca dos padr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7464-4A21-494D-A1B8-080E7AF2734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2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9"/>
          <p:cNvSpPr/>
          <p:nvPr/>
        </p:nvSpPr>
        <p:spPr>
          <a:xfrm>
            <a:off x="755640" y="1916280"/>
            <a:ext cx="7632720" cy="35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2"/>
          <p:cNvSpPr/>
          <p:nvPr/>
        </p:nvSpPr>
        <p:spPr>
          <a:xfrm>
            <a:off x="1116000" y="2060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Parte das entidades ainda não se posiciona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ntre as entidades que apresentaram posicionamento, apontamos alguns tópicos a serem considera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1116000" y="29210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ronograma de implantação do novo padrão, para que todos envolvidos  possam cumprir suas respectivas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O padrão não deve ser híbrido, visando permitir  a exportação dos transmissores e proporcionar uma melhor escala econômica e precificação para o mercado consumid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licitação de estudos sobre a digitalização da faixa de frequência de Ondas Cu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FE13-605E-414C-AAEB-06119C2A22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"/>
          <p:cNvSpPr/>
          <p:nvPr/>
        </p:nvSpPr>
        <p:spPr>
          <a:xfrm>
            <a:off x="1224000" y="18050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DRM e Tell H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9"/>
          <p:cNvSpPr/>
          <p:nvPr/>
        </p:nvSpPr>
        <p:spPr>
          <a:xfrm>
            <a:off x="1224000" y="2540160"/>
            <a:ext cx="6696000" cy="18968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2"/>
          <p:cNvSpPr/>
          <p:nvPr/>
        </p:nvSpPr>
        <p:spPr>
          <a:xfrm>
            <a:off x="1511280" y="2625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mbas as entidades enviaram informações acerca de mercado, custos e prazos de implantação e plano de negócio para a digitalização do rá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ssas informações estão sendo avali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15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BCC4-F06E-48A5-9290-6A491C0207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caminh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9"/>
          <p:cNvSpPr/>
          <p:nvPr/>
        </p:nvSpPr>
        <p:spPr>
          <a:xfrm>
            <a:off x="1224000" y="2565360"/>
            <a:ext cx="6696000" cy="1752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"/>
          <p:cNvSpPr/>
          <p:nvPr/>
        </p:nvSpPr>
        <p:spPr>
          <a:xfrm>
            <a:off x="1511280" y="273204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 coordenação do subgrupo CCRD1 irá consolidar todos os posicionamentos das entidades e formulará suas considerações acerca do padrão a ser adot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Será realizada reunião para apresentar o relatório final ao subgru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5E44-C2E7-4472-9EFE-F60504096BA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12"/>
          <p:cNvSpPr/>
          <p:nvPr/>
        </p:nvSpPr>
        <p:spPr>
          <a:xfrm>
            <a:off x="1763640" y="2433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Obrig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11"/>
          <p:cNvSpPr/>
          <p:nvPr/>
        </p:nvSpPr>
        <p:spPr>
          <a:xfrm>
            <a:off x="3490920" y="515772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1:36:32Z</dcterms:created>
  <dc:creator>Rafael Andrade Reis de Araújo</dc:creator>
  <dc:description/>
  <dc:language>en-US</dc:language>
  <cp:lastModifiedBy>Otavio Viegas Caixeta</cp:lastModifiedBy>
  <dcterms:modified xsi:type="dcterms:W3CDTF">2013-02-28T17:23:26Z</dcterms:modified>
  <cp:revision>37</cp:revision>
  <dc:subject/>
  <dc:title>Apresentação do PowerPoint</dc:title>
</cp:coreProperties>
</file>