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CAC4-32D5-4925-B0E6-6FBC877731B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AA78-250D-479D-97C2-43758A32E00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1058-8D09-4086-9796-5F27D45C70A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AA3-2D17-4BE8-8756-B997E3C8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802-C9FD-4308-9483-270B8E90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BE9-185A-4513-A28E-3C8DDD12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BCA-8FE8-47B0-B9B2-29CD534E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2438-AAC7-4C19-91C5-46EB39C0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B9CD-9DC2-40C0-BC39-336AEB5B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6236-841A-455E-BB97-65BA829E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5746-B5B7-4D05-96A8-3ABB032B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AA77-1A90-4437-9DB0-A6D8FC27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086A-8D3C-4701-A0D3-BDC0CF7D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F133-5AC4-435B-823B-5EA72C00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1B2-BC1C-439B-B570-F5500009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C2C5-53D2-4EE2-906B-A5F77AD5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0E8C-2037-4F10-B3F6-E7EDAA33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888D-D679-4352-9853-D21FC5BE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5274-7260-4652-86D2-77CCAA9D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F3C8-E97E-4370-AFBB-AEF5BED1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96A-2DEB-4673-8111-B1CC8EAE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23A-E7D9-4D2F-84C7-ED2D388E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440-BCF7-4C66-BFB1-963CCDDB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0AE-9264-439E-AA99-98718952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268-9189-49AC-8F09-B8C35F3B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94D-AFE0-44B5-B23E-039828E7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F6F-CAAE-451C-BD6A-DC040C6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A592-571A-45EE-A5A0-1DD606A5C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AC6F-5B72-4400-982E-2F510427B29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5" descr="HD PPT - Background-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Broadcast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on Information Service (SIS) carries identifier of GINGA service avail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Information Guide (SIG) identifies the details of the GINGA service for rendering on recei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SAC interface to translation layer of DSM-CC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143000" y="849240"/>
          <a:ext cx="716292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49240"/>
                    <a:ext cx="716292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Receiver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D Radio™ decoder manages reception of various data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NGA application runs on host microprocessor to interface data object to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 Service Processor (RSP) accesses relevant transport protocols to identify GINGA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1066680" y="914400"/>
          <a:ext cx="67820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67820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9:25:16Z</dcterms:created>
  <dc:creator>Detweiler, Jeff</dc:creator>
  <dc:description/>
  <dc:language>en-US</dc:language>
  <cp:lastModifiedBy>Rafael Leal da Silva</cp:lastModifiedBy>
  <dcterms:modified xsi:type="dcterms:W3CDTF">2013-03-08T14:37:55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fhNWTeX0x1jltHSioH9jxsbhABX-eFxEXphIEyfCwIk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05762456327685541730</vt:lpwstr>
  </property>
  <property fmtid="{D5CDD505-2E9C-101B-9397-08002B2CF9AE}" pid="6" name="Google.Documents.Tracking">
    <vt:lpwstr>true</vt:lpwstr>
  </property>
</Properties>
</file>