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1C06-64CF-417D-9048-4540799CDB9A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2699-8C61-40AB-8564-257D8144F1FC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DFA4-B322-487C-82F9-6E4E7CFBE67A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DF4A-E57B-4BDD-91A6-5691CA6F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5436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6E09-4D7A-4311-A76C-980239B3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5812-CE26-422E-AC24-54A2F8CB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FE5B-AB35-4776-A717-5019EBF6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AE4C-2455-494B-A104-7DBB73D3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95220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E597-2893-43EA-BF0E-08EECBF5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61A6-D0AF-45FD-B8DB-0D7704B7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0F5E-F618-46F0-9CEF-CBC81882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3ABE-0250-487F-9728-C5C33B29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3440"/>
            <a:ext cx="822960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DF8D-62F1-420E-A5A9-86A1DFE0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6E59-CB4F-45D0-8B5E-901F42AD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5220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5054-86FB-4A18-9478-F73A3136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FD90-19D9-4923-A730-34627A94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C27D-3A6F-43BF-B1CD-F661083D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5436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7130-DEFA-4E6E-B483-D6836EDC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4445-49DF-4AD8-92E6-06567766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7A35-B395-40F2-B1A5-D40C615E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4A67-D79F-4257-844F-22A6FB6A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3A68-693F-4663-8A1F-2D3805A5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1D2C-1307-462F-9D5C-E6A649AE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3440"/>
            <a:ext cx="822960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1830-7DA0-4EE4-AD77-E87AF3E5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92AF-4336-41E2-9AAD-AF0B52B5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36C7-7F58-4626-9CBD-5B59C4EE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0CA5-9435-4A1C-93B6-C40F8CF6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5220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0000"/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99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1AB8-1E10-4218-B100-083853908C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2767-62DD-41E0-8066-077E1463EB3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5" descr="HD PPT - Background-Logo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63080"/>
            <a:ext cx="822960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posal of Broadcast Side Architecture for GINGA Servi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4800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524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tion Information Service (SIS) carries identifier of GINGA service availabi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524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Information Guide (SIG) identifies the details of the GINGA service for rendering on recei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524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SAC interface to translation layer of DSM-CC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1143000" y="849240"/>
          <a:ext cx="7162920" cy="37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849240"/>
                    <a:ext cx="7162920" cy="37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63080"/>
            <a:ext cx="822960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posal of Receiver Side Architecture for GINGA Servi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464832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37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D Radio™ decoder manages reception of various data objec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37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NGA application runs on host microprocessor to interface data object to displ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37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dio Service Processor (RSP) accesses relevant transport protocols to identify GINGA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6" name="Object 6"/>
          <p:cNvGraphicFramePr/>
          <p:nvPr/>
        </p:nvGraphicFramePr>
        <p:xfrm>
          <a:off x="1066680" y="914400"/>
          <a:ext cx="678204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14400"/>
                    <a:ext cx="67820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19:25:16Z</dcterms:created>
  <dc:creator>Detweiler, Jeff</dc:creator>
  <dc:description/>
  <dc:language>en-US</dc:language>
  <cp:lastModifiedBy>Rafael Leal da Silva</cp:lastModifiedBy>
  <dcterms:modified xsi:type="dcterms:W3CDTF">2013-03-08T14:37:55Z</dcterms:modified>
  <cp:revision>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fhNWTeX0x1jltHSioH9jxsbhABX-eFxEXphIEyfCwIk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RevisionId">
    <vt:lpwstr>05762456327685541730</vt:lpwstr>
  </property>
  <property fmtid="{D5CDD505-2E9C-101B-9397-08002B2CF9AE}" pid="6" name="Google.Documents.Tracking">
    <vt:lpwstr>true</vt:lpwstr>
  </property>
</Properties>
</file>