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5145088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54520" y="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03320" y="743040"/>
            <a:ext cx="659448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9320" y="4706640"/>
            <a:ext cx="5440320" cy="4452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94107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890F515-8D61-4121-A505-5488A993B22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3D87003B-3167-4491-A6E1-5E6D6C540F1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ABB94-AA84-428B-85F6-331747C5F16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000502DB-29EE-4952-9DD6-63E8E737D0D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4D384-B161-4F21-8B52-748FFF1855D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2FEE34D-B478-4B0E-88AF-B0C616C25D2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326F0-7744-4796-9104-8F1AE307EE4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092B1D54-8A59-4FA5-A081-12305F4AC35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F93FA-4BB3-4EB6-87F7-048A860EF1D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ED3CB0F4-9A5E-47DA-B750-BF05CA87BEB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62CCF-BD9C-494F-B196-DF417FF25C7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101E27BC-E8AE-40B1-8DEE-5F577B84F7D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0E74F-C96A-4392-A59B-633F9062093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DB42109-CE74-4BA8-8E4A-546EF45EA03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EA488-D2CB-4D31-9A5F-0441D8DDEE2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D4E4B5FA-DDC3-4473-80E3-9B438CBDC23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1F40C-617B-4D9D-B839-9F2D6A5B8AB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2CE0C0A4-88E9-4878-B659-4CA647523B5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A759C-A1C6-42FE-BDC3-36F9EFA5B8D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380DDC7-3F87-4B0A-A2F3-EF01BE2522E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2F694-2394-4C43-B5C1-E8BCCFD5885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01C69C1-189A-41D9-AF59-1E7EE9E8108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80E1E-97C2-44EC-82E3-2E38E96964C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3B36A6AC-E5F8-4EB5-A711-993D67118D9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3E101-E3E0-4B12-88B3-8FF64039936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F2B953A-24AB-4701-AC3D-5A423B51809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9551E-5DBE-4B05-918D-C601BD357F6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1E7D6D4-D3CD-4DA3-80CC-193A8120C53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370CA-DDCD-4E32-92B1-4EC522D7A00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0C259A6-977C-40DF-8FF9-6F2E82DC3F8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3B53D-A6AE-4633-BAF5-B9F9BC29FB3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8E34BFEA-1575-4148-90A9-9D7F9DA95AD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004E4-D340-434E-9E31-DE6CC9C1BFC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21683BF8-B711-4702-8C66-3BB57949305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2F6C6-05FF-44B7-B0EB-F94105D99F4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1AAA633-5B1B-4915-8C8B-69B477B7238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25B0E-6514-42B2-A435-CA30F2BBE99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11DF721-E967-488E-BA74-5AA94ED02F9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DD5A0-F163-4BA5-B502-9AACF686203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005D6376-E8D4-4BAB-9376-77F9827871D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45BD2-4A95-4EF5-8F41-B0FA256CC0A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836EFD41-4F0A-4B18-A467-634BCFF957F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E4E64-2C78-4412-A75C-5CB261DE354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ED012C25-3766-4102-B31F-BF3790ED6B2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48CC4-ED72-4AE6-997F-E6C2D71DBA9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3724-0323-4B80-BAC5-AE442D2A6C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D2217-2CC5-407C-863A-1E2335FF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80D99-5683-4B33-9F03-6D1679AE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A3A0-8956-4294-8390-8DBA364E1A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B6C8E-130A-476A-AE7A-FC30ACAB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D608-FF7B-4C73-B0BB-D90AB086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4C913-0821-4FB1-A588-5B5888D6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9E3A-0E81-43A2-855A-EC7699F7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8244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FE699-2830-45E3-8528-C0464622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4FBF-9B72-49F5-A61D-449D513B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ADF77-2CAB-4826-9C87-7CB7F09B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9258-5AAC-4FED-BC8A-791C8E83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1816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7/07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19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1816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AA9CE-5F0B-42DF-943B-9A20856C98AA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763640" y="1636560"/>
            <a:ext cx="5715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1e9d1e"/>
                </a:solidFill>
                <a:latin typeface="Arial"/>
                <a:ea typeface="Arial"/>
              </a:rPr>
              <a:t>Câmara Temática de Inovação Tecno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e9d1e"/>
                </a:solidFill>
                <a:latin typeface="Arial"/>
                <a:ea typeface="Arial"/>
              </a:rPr>
              <a:t>Conselho Consultivo de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6"/>
          <p:cNvSpPr/>
          <p:nvPr/>
        </p:nvSpPr>
        <p:spPr>
          <a:xfrm>
            <a:off x="2411280" y="444492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e9d1e"/>
                </a:solidFill>
                <a:latin typeface="Arial"/>
                <a:ea typeface="Arial"/>
              </a:rPr>
              <a:t>Brasília, 28 de fevereiro de 201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00000" y="11318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Questionário enviado aos representantes dos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61C3B-77C5-4117-8336-31C2B16EC98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CaixaDeTexto 14"/>
          <p:cNvSpPr/>
          <p:nvPr/>
        </p:nvSpPr>
        <p:spPr>
          <a:xfrm>
            <a:off x="468360" y="1924200"/>
            <a:ext cx="820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aixaDeTexto 15"/>
          <p:cNvSpPr/>
          <p:nvPr/>
        </p:nvSpPr>
        <p:spPr>
          <a:xfrm>
            <a:off x="468360" y="1758960"/>
            <a:ext cx="82072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7878de"/>
                </a:solidFill>
                <a:latin typeface="Arial"/>
              </a:rPr>
              <a:t> </a:t>
            </a: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Solicitação: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relação dos serviços/aplicativos disponíveis ou em desenvolvimento, com breve descr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nome comercial do aplicativo/serviço e/ou desenvolvimen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classificação como serviço e/ou aplicativ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descrições técnicas: estruturas de desenvolvimento e funcionamento, incluindo informações sobre a taxa de bits mínima e a ideal além de limitações ou restrições para funcionamento do serviço/aplicativo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descrição para o usuár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faixa de funcionamento: se serviço/aplicativo está disponível para todas as faixas de serviço de radiodifusão sonora (FM, OM, OC, O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13748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vinculação simples: se o aplicativo/serviço está vinculado a uma programação de áudio e, nesse caso, se está compartilhando com o áudio um único serviç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vinculação composta: se o aplicativo/serviço pode ser vinculado simultanea-mente a todas as programações de áudio permitidas pelo sistema, ocupando uma única taxa de dado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lação de compromisso entre o áudio digital e os aplicativos/serviços (qualidade de áudio x aplicativo/serviç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localização do serviço: descrever em que portadoras OFDM estão localizados os serviços/aplicativos no sistem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middleware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: se há a necessidade para uso do serviço/aplica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6BE22-3C5D-45FC-99BF-F31F8E16CDF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68360" y="12430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ceptor: características básicas para acessar o aplicativo/serviço (ex: formato da tela, processador mais rápido, et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transmissor: serviço/aplicativo contido no transmissor digital ou há necessidade de aquisição de um equipamento ou software específic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cepção: na recepção, o conteúdo transmitido  pode ser condicionado a um usuário específico por meio de um 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informações adicionai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Qual a concepção de serviço e aplicativ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Informações acerca da relação de compromisso entre o quantitativo de serviços/aplicativos e a qualidade do áud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34F11-0784-428A-99F3-C04DEC6D041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928800" y="223992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plicativo: transmissão junto do conteúdo de um serviço/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erviço: ocupa um canal específico, mesmo que seja acessado por meio de um outro servi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900000" y="1320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Aplicativo x Serviç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D7EB3-DCBC-4564-BFA0-B18BEC5B58F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900000" y="11318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Descrição dos Aplicativos e Serviç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10573-7DC1-4070-ACD5-F00E0BE4B91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1627200"/>
          <a:ext cx="8064360" cy="2906640"/>
        </p:xfrm>
        <a:graphic>
          <a:graphicData uri="http://schemas.openxmlformats.org/drawingml/2006/table">
            <a:tbl>
              <a:tblPr/>
              <a:tblGrid>
                <a:gridCol w="1079280"/>
                <a:gridCol w="2305080"/>
                <a:gridCol w="2951280"/>
                <a:gridCol w="1076400"/>
                <a:gridCol w="652320"/>
              </a:tblGrid>
              <a:tr h="7556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R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VE DESCRI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BITS (aprox.) [kbps]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X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rowSpan="8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D Ra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Service Data (PSD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ítulo da música e artista/ Título comerci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ist Experie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 de Disco/ Logomarca da Emissora/ Imagem Comerci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e Aler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 Digital de Alerta de Emergência e Informa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ng Taggin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ção ao Comércio de Músic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D Traffi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ções de Tráfego e Map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 - 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 (AM?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 and Information Servic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 de Texto/ Notícias/ Clima/ Esport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 (AM?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nic Program Gui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ção de emissoras de uma determinada á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- 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 S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atividade de dados – serviço para celulares com rádio digital integrad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AE24E-C428-4DA2-AD24-5E3CF33A5CE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11280" y="1492200"/>
          <a:ext cx="7993080" cy="3274920"/>
        </p:xfrm>
        <a:graphic>
          <a:graphicData uri="http://schemas.openxmlformats.org/drawingml/2006/table">
            <a:tbl>
              <a:tblPr/>
              <a:tblGrid>
                <a:gridCol w="936360"/>
                <a:gridCol w="2448000"/>
                <a:gridCol w="2448000"/>
                <a:gridCol w="1008000"/>
                <a:gridCol w="1152720"/>
              </a:tblGrid>
              <a:tr h="4320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R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VE DESCRI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BITS (aprox.) [kbps]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X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rowSpan="8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WBS (Emergency Warning Broadcast System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 de Transmissão de Aviso de Emergênc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sagens de Texto 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o com rolage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8 (DRM30) / 0,32 (DRM+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o avançado com canal de retor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 -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desho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ns/animaçõ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G - Electronic Programme Gui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a de Programação Eletrônic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eem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ídeo de baixa resolu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MC (Canal de Mensagem de Tráfego)/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EG (Transport Protocol Experts Group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ção de tráfeg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missão Transparente de Arquivo MOT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OT: Multimedia Object Transfer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ocolo para transmissão de arquivos/estruturas de diretórios,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i Broadcast Website ("Website de Emissora"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" name="Text Box 7"/>
          <p:cNvSpPr/>
          <p:nvPr/>
        </p:nvSpPr>
        <p:spPr>
          <a:xfrm>
            <a:off x="900000" y="9889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Descrição dos Aplicativos e Serviç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928800" y="1878120"/>
            <a:ext cx="73580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Levantar a capacidade de bits</a:t>
            </a:r>
            <a:r>
              <a:rPr b="0" lang="pt-BR" sz="1800" spc="-1" strike="noStrike">
                <a:solidFill>
                  <a:srgbClr val="7878de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úteis dos sistemas, de acordo com a largura de banda do canal e a configuração utili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- capacidade de um canal diretamente relacionado à largura de banda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 do canal (B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Serviço     AM: B = 20kHz (HD)/10kHz (D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FM: B = 200kHz (HD)/100kHz (D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Metodologia de Traba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5B175-F806-4411-A4A5-89F15204F72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Chave esquerda 12"/>
          <p:cNvSpPr/>
          <p:nvPr/>
        </p:nvSpPr>
        <p:spPr>
          <a:xfrm>
            <a:off x="2411280" y="3652920"/>
            <a:ext cx="46080" cy="64764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647640"/>
              <a:gd name="textAreaBottom" fmla="*/ 64656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7"/>
                </a:cubicBezTo>
                <a:lnTo>
                  <a:pt x="10800" y="10673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4"/>
                  <a:pt x="10800" y="10927"/>
                </a:cubicBezTo>
                <a:lnTo>
                  <a:pt x="10800" y="21473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332000" y="915840"/>
            <a:ext cx="6243480" cy="4029120"/>
          </a:xfrm>
          <a:prstGeom prst="rect">
            <a:avLst/>
          </a:prstGeom>
          <a:ln w="0">
            <a:noFill/>
          </a:ln>
        </p:spPr>
      </p:pic>
      <p:sp>
        <p:nvSpPr>
          <p:cNvPr id="2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8F24F-4312-4360-A54D-D6E313D7EA4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447920" y="923760"/>
            <a:ext cx="6248160" cy="4024440"/>
          </a:xfrm>
          <a:prstGeom prst="rect">
            <a:avLst/>
          </a:prstGeom>
          <a:ln w="0">
            <a:noFill/>
          </a:ln>
        </p:spPr>
      </p:pic>
      <p:sp>
        <p:nvSpPr>
          <p:cNvPr id="21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E1EF7-182E-4152-923E-D92F69955EC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644480" y="988920"/>
            <a:ext cx="5853240" cy="3853080"/>
          </a:xfrm>
          <a:prstGeom prst="rect">
            <a:avLst/>
          </a:prstGeom>
          <a:ln w="0">
            <a:noFill/>
          </a:ln>
        </p:spPr>
      </p:pic>
      <p:sp>
        <p:nvSpPr>
          <p:cNvPr id="22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22F44-F979-4B0B-B441-843F5AA65B3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928800" y="192420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Obje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Histórico e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Planej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Descrição dos Serviç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Metodolo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Próximos Pas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B20B6-7474-4F46-8779-A9EB5AB3683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39B94-3A9C-4B7E-941B-B705DB64C26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736640" y="988920"/>
            <a:ext cx="585972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25FDE-4E9A-43EF-8B32-E0769BE0202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tângulo 9"/>
          <p:cNvSpPr/>
          <p:nvPr/>
        </p:nvSpPr>
        <p:spPr>
          <a:xfrm>
            <a:off x="923760" y="120492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óximos pas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958680" y="1878120"/>
            <a:ext cx="7358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Qualidade do áudio (quantidade de bits necessários; codificador de fonte) e a disponibilidade para os diferentes serviços (AM e F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Quantidade de serviços possíveis para cada serviço (simular casos prático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3366ff"/>
                </a:solidFill>
                <a:latin typeface="Calibri"/>
              </a:rPr>
              <a:t>Middlewares -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processar e complementar a informaçã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Levantamento sobre a convergência do rádio com outros serviços digit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Características mínimas para os receptore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11AD5-5223-48E9-BE03-2DEE838E799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900000" y="1333440"/>
            <a:ext cx="74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6666ff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6666ff"/>
                </a:solidFill>
                <a:latin typeface="Calibri"/>
              </a:rPr>
              <a:t>Equipe do Rádio Digital – CG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Elza Maria Fernandes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elza.fernandes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Flávio Ferreira Lima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flavio.ferreira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Letícia Ribeiro Cardoso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leticia.cardoso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Gilvandson Costa Cavalcante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gilvandson.cavalcante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28800" y="192420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ovação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tecnológica – Mapeamento dos serviços, aplicativos e avanços recentes em ambos os sistemas, de projetos e iniciativas acadêmicas e das modificações necessárias para adequação do sistema às peculiaridades d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aprovada pelo CCRD na 1ª Reunião </a:t>
            </a:r>
            <a:r>
              <a:rPr b="1" lang="pt-BR" sz="1600" spc="-1" strike="noStrike">
                <a:solidFill>
                  <a:srgbClr val="2966ba"/>
                </a:solidFill>
                <a:latin typeface="Calibri"/>
              </a:rPr>
              <a:t>(23/10/201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D02B6-5713-498B-9F9B-E4A64E0A716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28800" y="1924200"/>
            <a:ext cx="7358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ádio Digital – oportun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6C213-7EFD-48AC-AB73-A4D8459472D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030320" y="202392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Melhorar o áudio – suficien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Agregar serviços de dados – diferenci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Convergência com outros serviços digit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Exclusão social ou oportunidade de inclusão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928800" y="1716120"/>
            <a:ext cx="73580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Times New Roman"/>
              </a:rPr>
              <a:t> ͣ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  Reunião da Câmara – 28/11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presentação da proposta dos assuntos a serem abord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Indicação de representantes (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MARC, ABRA/MACKENZIE, ABERT, ANATEL, ELETROS (PIONEER), MinC, ABIRD, MDIC, ABRAÇO NACIONAL e padrões de rádio digital testado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Times New Roman"/>
              </a:rPr>
              <a:t> ͣ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  Reunião da Câmara – 14/12/20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presentação da proposta de funcionamento da Câm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BA2A8-4713-4638-9C24-8456832BF94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900000" y="1685880"/>
            <a:ext cx="73580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2966ba"/>
                </a:solidFill>
                <a:latin typeface="Calibri"/>
              </a:rPr>
              <a:t>Tópico 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onhecimento dos serviços e aplicativos existentes para cada sistema bem como o desenvolvimento de inovaçõ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r>
              <a:rPr b="1" lang="pt-BR" sz="2000" spc="-1" strike="noStrike">
                <a:solidFill>
                  <a:srgbClr val="2966ba"/>
                </a:solidFill>
                <a:latin typeface="Calibri"/>
              </a:rPr>
              <a:t>Tópico 2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finição das condições técnicas para a convergência do serviço de Televisão Digital com cada um dos sistemas de Rádio Digital em análi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898560" y="11271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lanej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D30C4-3335-4FC9-9D20-0076D291DDB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826920" y="1492200"/>
            <a:ext cx="7358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 Ger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oportunidades criadas a partir da implantação do Rádio Digital, além da melhoria na qualidade do áud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finir o que é serviço e aplica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Levantar os serviços e os aplicativos disponíveis para cada padr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se serviços/aplicativos estão ligados a programações, e se for este o caso, se os mesmos estão disponíveis para todas as programações com as mesmas característic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755640" y="98892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ópico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0EE96-C3B5-4B39-85C9-BBE10C9F82B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00000" y="149220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 (continuação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condições necessárias para acesso aos serviços e aplicativos (do ponto de vista do radiodifusor e do ouvint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características dos </a:t>
            </a:r>
            <a:r>
              <a:rPr b="0" i="1" lang="pt-BR" sz="1800" spc="-1" strike="noStrike">
                <a:solidFill>
                  <a:srgbClr val="2966ba"/>
                </a:solidFill>
                <a:latin typeface="Calibri"/>
              </a:rPr>
              <a:t>middlewares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usados por cada sistema, a possibilidade de substituí-los pelo Ginga, ou mesmo acrescentá-lo, e as condições estabelecidas para essa inclusão/substituiç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dicar os serviços básicos desejáveis em uma futura implantação do rádio digital e que características técnicas os receptores deveriam ter para acessá-l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86BB2-8BD4-4C69-9B35-6D4056F7449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82720" y="1131840"/>
            <a:ext cx="61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ópic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7A3BD-98E0-4A10-BB25-8EB1A9E9028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tângulo 1"/>
          <p:cNvSpPr/>
          <p:nvPr/>
        </p:nvSpPr>
        <p:spPr>
          <a:xfrm>
            <a:off x="934920" y="172728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 Ger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 possibilidade de convergência com a TV Digital e as condições para que isso oco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specificar quais as condições para haver a convergência do sistema de rádio digital com o padrão de TV Digital adotado pelo Bras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terminar as modificações necessárias para cada um dos padrõ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se as modificações identificadas são passíveis de atendimento e quais as condições estabelecidas por cada padrão para a sua realizaç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00:26Z</dcterms:created>
  <dc:creator>pericles.teodoro</dc:creator>
  <dc:description/>
  <dc:language>en-US</dc:language>
  <cp:lastModifiedBy>Elza Maria Del Negro B.Fernandes</cp:lastModifiedBy>
  <cp:lastPrinted>2013-02-28T16:29:20Z</cp:lastPrinted>
  <dcterms:modified xsi:type="dcterms:W3CDTF">2013-02-28T16:47:33Z</dcterms:modified>
  <cp:revision>227</cp:revision>
  <dc:subject/>
  <dc:title>Slide 1</dc:title>
</cp:coreProperties>
</file>