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8F11-55C0-4E2A-B67E-C99D86E6BD9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412A-37F7-4B80-B75E-D63145401D9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CB44-4D17-4710-9FB2-32FEDE103E7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C5E4-B448-4D44-8296-4D1975C33B5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3858-1056-491E-9716-6C33CADACCD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AE4F-624D-4C43-AFF9-04FC54C6479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42B4-5CAF-458B-ADF7-7E0A444B747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6F00-3D3F-425E-9012-AB18A26BD0F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772B-1D26-495F-842C-EA728667B90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349-D555-4793-BF37-24BA505F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BA4-8262-41B2-9B05-8AE8A12C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858-6F0C-410C-8DE7-9C697054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512-2FB6-4214-B8C7-7C15F3DB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BDD-DF1A-4F7B-A717-A9B19560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95F-EA4B-420F-9F6B-22247758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0E1-E1F1-47AB-8C48-84F78637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577-2DF8-4FAE-9C2F-720467AD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0B8-C67E-4840-99E3-2B32ACA0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AC67-367D-45DF-B33F-08499A56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28E-D7E6-434B-A2A2-DB793540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F6C-3997-401A-B9C9-EAC6172B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34E5-986E-4F39-87CD-0BA0FE71A985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993C-4998-409F-893F-49558835DA6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BF38-5ECD-4CE5-8E83-F8BAF33F148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pic>
        <p:nvPicPr>
          <p:cNvPr id="54" name="Imagem 9" descr="blog-radio-digital.jpg"/>
          <p:cNvPicPr/>
          <p:nvPr/>
        </p:nvPicPr>
        <p:blipFill>
          <a:blip r:embed="rId3"/>
          <a:stretch/>
        </p:blipFill>
        <p:spPr>
          <a:xfrm>
            <a:off x="5148360" y="2349360"/>
            <a:ext cx="2689200" cy="1730520"/>
          </a:xfrm>
          <a:prstGeom prst="rect">
            <a:avLst/>
          </a:prstGeom>
          <a:ln w="0">
            <a:noFill/>
          </a:ln>
        </p:spPr>
      </p:pic>
      <p:pic>
        <p:nvPicPr>
          <p:cNvPr id="55" name="Imagem 11" descr="rádio digital.png"/>
          <p:cNvPicPr/>
          <p:nvPr/>
        </p:nvPicPr>
        <p:blipFill>
          <a:blip r:embed="rId4"/>
          <a:stretch/>
        </p:blipFill>
        <p:spPr>
          <a:xfrm>
            <a:off x="1116000" y="2349360"/>
            <a:ext cx="2457360" cy="165600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12"/>
          <p:cNvSpPr/>
          <p:nvPr/>
        </p:nvSpPr>
        <p:spPr>
          <a:xfrm>
            <a:off x="576360" y="13939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Comissão Temática sobre Política Industrial (CCRD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tângulo 1"/>
          <p:cNvSpPr/>
          <p:nvPr/>
        </p:nvSpPr>
        <p:spPr>
          <a:xfrm>
            <a:off x="3490920" y="5181480"/>
            <a:ext cx="21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f7f7f"/>
                </a:solidFill>
                <a:latin typeface="Calibri"/>
              </a:rPr>
              <a:t>Brasília, fevereiro de 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5A94-3A98-483F-89D6-851C3C18E42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64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Reuniões realiz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tângulo de cantos arredondados 13"/>
          <p:cNvSpPr/>
          <p:nvPr/>
        </p:nvSpPr>
        <p:spPr>
          <a:xfrm>
            <a:off x="1332000" y="2349360"/>
            <a:ext cx="6696000" cy="2303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ixaDeTexto 14"/>
          <p:cNvSpPr/>
          <p:nvPr/>
        </p:nvSpPr>
        <p:spPr>
          <a:xfrm>
            <a:off x="1619280" y="297972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28 de novembr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06 de dezembr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3374-6CE5-4586-8764-E1B8BA41D9C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73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Entidades Particip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tângulo de cantos arredondados 13"/>
          <p:cNvSpPr/>
          <p:nvPr/>
        </p:nvSpPr>
        <p:spPr>
          <a:xfrm>
            <a:off x="1258920" y="2349360"/>
            <a:ext cx="6697800" cy="2087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aixaDeTexto 14"/>
          <p:cNvSpPr/>
          <p:nvPr/>
        </p:nvSpPr>
        <p:spPr>
          <a:xfrm>
            <a:off x="1619280" y="249228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IN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I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ELET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ixaDeTexto 11"/>
          <p:cNvSpPr/>
          <p:nvPr/>
        </p:nvSpPr>
        <p:spPr>
          <a:xfrm>
            <a:off x="1258920" y="465300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olicitação a algumas entidades de posicionamento sobre os padrões de rádio dig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aixaDeTexto 15"/>
          <p:cNvSpPr/>
          <p:nvPr/>
        </p:nvSpPr>
        <p:spPr>
          <a:xfrm>
            <a:off x="3564000" y="2492280"/>
            <a:ext cx="180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EB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D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Ibi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aixaDeTexto 16"/>
          <p:cNvSpPr/>
          <p:nvPr/>
        </p:nvSpPr>
        <p:spPr>
          <a:xfrm>
            <a:off x="5724360" y="249228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Tell 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D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C/S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C/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6DD9-F868-4DD7-B850-E27BFDC3E97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84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85" name="CaixaDeTexto 12"/>
          <p:cNvSpPr/>
          <p:nvPr/>
        </p:nvSpPr>
        <p:spPr>
          <a:xfrm>
            <a:off x="1763640" y="103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Relató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tângulo de cantos arredondados 13"/>
          <p:cNvSpPr/>
          <p:nvPr/>
        </p:nvSpPr>
        <p:spPr>
          <a:xfrm>
            <a:off x="503280" y="1700280"/>
            <a:ext cx="8137440" cy="3744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aixaDeTexto 14"/>
          <p:cNvSpPr/>
          <p:nvPr/>
        </p:nvSpPr>
        <p:spPr>
          <a:xfrm>
            <a:off x="928800" y="2898720"/>
            <a:ext cx="292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Técn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Econôm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aixaDeTexto 17"/>
          <p:cNvSpPr/>
          <p:nvPr/>
        </p:nvSpPr>
        <p:spPr>
          <a:xfrm>
            <a:off x="4067280" y="2924280"/>
            <a:ext cx="446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Custo/Prazo de Implantação de uma rádio comercial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Proposta de ação para tratar do passivo de receptores analógicos e custos envolvid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Proposta de desenvolvimento tecnológico no paí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Fabricantes interessados em utilizar o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Radiodifusores interessados em utilizar o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Opções de plano de negócios para os fabrican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Opções de  plano de negócios para cada tipo de radiodifuso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aixaDeTexto 18"/>
          <p:cNvSpPr/>
          <p:nvPr/>
        </p:nvSpPr>
        <p:spPr>
          <a:xfrm>
            <a:off x="2771640" y="18241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nformações solicitadas às entid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tângulo 1"/>
          <p:cNvSpPr/>
          <p:nvPr/>
        </p:nvSpPr>
        <p:spPr>
          <a:xfrm>
            <a:off x="3360600" y="23954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Visão acerca dos padrõ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E8B6-C53D-4339-9AEA-A55DCF6E49D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9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97" name="CaixaDeTexto 12"/>
          <p:cNvSpPr/>
          <p:nvPr/>
        </p:nvSpPr>
        <p:spPr>
          <a:xfrm>
            <a:off x="1763640" y="1197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Posicionamento das ent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tângulo de cantos arredondados 9"/>
          <p:cNvSpPr/>
          <p:nvPr/>
        </p:nvSpPr>
        <p:spPr>
          <a:xfrm>
            <a:off x="755640" y="1916280"/>
            <a:ext cx="7632720" cy="3528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aixaDeTexto 2"/>
          <p:cNvSpPr/>
          <p:nvPr/>
        </p:nvSpPr>
        <p:spPr>
          <a:xfrm>
            <a:off x="1116000" y="2060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Parte das entidades ainda não se posiciona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Entre as entidades que apresentaram posicionamento, apontamos alguns tópicos a serem considerad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aixaDeTexto 6"/>
          <p:cNvSpPr/>
          <p:nvPr/>
        </p:nvSpPr>
        <p:spPr>
          <a:xfrm>
            <a:off x="1116000" y="292104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Cronograma de implantação do novo padrão, para que todos envolvidos  possam cumprir suas respectivas etap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O padrão não deve ser híbrido, visando permitir  a exportação dos transmissores e proporcionar uma melhor escala econômica e precificação para o mercado consumid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Solicitação de estudos sobre a digitalização da faixa de frequência de Ondas Cur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D26B-8CFB-42DC-855F-CE8678D1724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1"/>
          <p:cNvSpPr/>
          <p:nvPr/>
        </p:nvSpPr>
        <p:spPr>
          <a:xfrm>
            <a:off x="1224000" y="180504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DRM e Tell H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tângulo de cantos arredondados 9"/>
          <p:cNvSpPr/>
          <p:nvPr/>
        </p:nvSpPr>
        <p:spPr>
          <a:xfrm>
            <a:off x="1224000" y="2540160"/>
            <a:ext cx="6696000" cy="18968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aixaDeTexto 2"/>
          <p:cNvSpPr/>
          <p:nvPr/>
        </p:nvSpPr>
        <p:spPr>
          <a:xfrm>
            <a:off x="1511280" y="26258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Ambas as entidades enviaram informações acerca de mercado, custos e prazos de implantação e plano de negócio para a digitalização do rád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Essas informações estão sendo avaliad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aixaDeTexto 15"/>
          <p:cNvSpPr/>
          <p:nvPr/>
        </p:nvSpPr>
        <p:spPr>
          <a:xfrm>
            <a:off x="1763640" y="1197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Posicionamento das ent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7FF6-EB61-4AE0-A7EA-48F08E65610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1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Encaminha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tângulo de cantos arredondados 9"/>
          <p:cNvSpPr/>
          <p:nvPr/>
        </p:nvSpPr>
        <p:spPr>
          <a:xfrm>
            <a:off x="1224000" y="2565360"/>
            <a:ext cx="6696000" cy="1752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aixaDeTexto 2"/>
          <p:cNvSpPr/>
          <p:nvPr/>
        </p:nvSpPr>
        <p:spPr>
          <a:xfrm>
            <a:off x="1511280" y="2732040"/>
            <a:ext cx="61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A coordenação do subgrupo CCRD1 irá consolidar todos os posicionamentos das entidades e formulará suas considerações acerca do padrão a ser adot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Será realizada reunião para apresentar o relatório final ao subgrup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E459-99E2-40A5-A02F-7C751B1160E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26" name="CaixaDeTexto 12"/>
          <p:cNvSpPr/>
          <p:nvPr/>
        </p:nvSpPr>
        <p:spPr>
          <a:xfrm>
            <a:off x="1763640" y="24336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Obriga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tângulo 11"/>
          <p:cNvSpPr/>
          <p:nvPr/>
        </p:nvSpPr>
        <p:spPr>
          <a:xfrm>
            <a:off x="3490920" y="5157720"/>
            <a:ext cx="21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f7f7f"/>
                </a:solidFill>
                <a:latin typeface="Calibri"/>
              </a:rPr>
              <a:t>Brasília, fevereiro de 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21:36:32Z</dcterms:created>
  <dc:creator>Rafael Andrade Reis de Araújo</dc:creator>
  <dc:description/>
  <dc:language>en-US</dc:language>
  <cp:lastModifiedBy>Otavio Viegas Caixeta</cp:lastModifiedBy>
  <dcterms:modified xsi:type="dcterms:W3CDTF">2013-02-28T17:23:26Z</dcterms:modified>
  <cp:revision>37</cp:revision>
  <dc:subject/>
  <dc:title>Apresentação do PowerPoint</dc:title>
</cp:coreProperties>
</file>