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DEDE-9372-4DE1-A7CA-440D929EF98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5C33-14C3-48AA-892A-4017D9F5D59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1653-77D5-4D98-A918-0E9AB5C033C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37C7-0100-431D-9673-CECF7D64E36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124C-1AD5-4910-99F3-865EBED75FB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CBB2-CEDD-494E-A4FF-7EDDF7F4573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A87B-CEB6-44EA-8C7D-8B0AE3A1318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D302-D71D-49FE-A21E-42220868DE7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8BAB-BD5B-4F42-9E5B-783ED2DE782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31D-0FC9-4CB4-8DE8-A90CCB39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0E30-0872-4E7E-938C-63C8AAC7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4978-36E6-4F1C-8EE7-B91608B2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B49-E3E9-4BDD-90A5-DC8E134B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F2C-7FCF-41B9-9E03-2E5B0121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FED6-C8C2-4A4C-903C-D120B65B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181A-3ACE-487B-B2FE-059E1E70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78E6-5215-423B-A6CD-F988B268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ACE-DAED-4D3E-907D-934D6C02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4A1-C5E5-4EE2-B0C5-331A6DDF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2091-906D-47F2-8951-636B6A68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C70C-B5C5-4607-AC5E-43EDB470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3F8D-827A-4663-BF90-53C5E42C5EE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6A73-FCCF-410D-902A-D19B97DE4DE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7228-349C-498E-8A38-8650A71914C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pic>
        <p:nvPicPr>
          <p:cNvPr id="54" name="Imagem 9" descr="blog-radio-digital.jpg"/>
          <p:cNvPicPr/>
          <p:nvPr/>
        </p:nvPicPr>
        <p:blipFill>
          <a:blip r:embed="rId3"/>
          <a:stretch/>
        </p:blipFill>
        <p:spPr>
          <a:xfrm>
            <a:off x="5148360" y="2349360"/>
            <a:ext cx="2689200" cy="1730520"/>
          </a:xfrm>
          <a:prstGeom prst="rect">
            <a:avLst/>
          </a:prstGeom>
          <a:ln w="0">
            <a:noFill/>
          </a:ln>
        </p:spPr>
      </p:pic>
      <p:pic>
        <p:nvPicPr>
          <p:cNvPr id="55" name="Imagem 11" descr="rádio digital.png"/>
          <p:cNvPicPr/>
          <p:nvPr/>
        </p:nvPicPr>
        <p:blipFill>
          <a:blip r:embed="rId4"/>
          <a:stretch/>
        </p:blipFill>
        <p:spPr>
          <a:xfrm>
            <a:off x="1116000" y="2349360"/>
            <a:ext cx="2457360" cy="165600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12"/>
          <p:cNvSpPr/>
          <p:nvPr/>
        </p:nvSpPr>
        <p:spPr>
          <a:xfrm>
            <a:off x="576360" y="13939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Comissão Temática sobre Política Industrial (CCRD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tângulo 1"/>
          <p:cNvSpPr/>
          <p:nvPr/>
        </p:nvSpPr>
        <p:spPr>
          <a:xfrm>
            <a:off x="3490920" y="5181480"/>
            <a:ext cx="21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f7f7f"/>
                </a:solidFill>
                <a:latin typeface="Calibri"/>
              </a:rPr>
              <a:t>Brasília, fevereiro de 201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497C-489E-4975-B82C-52EC4BACCF0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64" name="CaixaDeTexto 12"/>
          <p:cNvSpPr/>
          <p:nvPr/>
        </p:nvSpPr>
        <p:spPr>
          <a:xfrm>
            <a:off x="1763640" y="13939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Reuniões realiz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tângulo de cantos arredondados 13"/>
          <p:cNvSpPr/>
          <p:nvPr/>
        </p:nvSpPr>
        <p:spPr>
          <a:xfrm>
            <a:off x="1332000" y="2349360"/>
            <a:ext cx="6696000" cy="2303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aixaDeTexto 14"/>
          <p:cNvSpPr/>
          <p:nvPr/>
        </p:nvSpPr>
        <p:spPr>
          <a:xfrm>
            <a:off x="1619280" y="297972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28 de novembro de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06 de dezembro de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5F75-D91C-4961-B453-AB53510CF95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73" name="CaixaDeTexto 12"/>
          <p:cNvSpPr/>
          <p:nvPr/>
        </p:nvSpPr>
        <p:spPr>
          <a:xfrm>
            <a:off x="1763640" y="13939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Entidades Particip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tângulo de cantos arredondados 13"/>
          <p:cNvSpPr/>
          <p:nvPr/>
        </p:nvSpPr>
        <p:spPr>
          <a:xfrm>
            <a:off x="1258920" y="2349360"/>
            <a:ext cx="6697800" cy="2087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aixaDeTexto 14"/>
          <p:cNvSpPr/>
          <p:nvPr/>
        </p:nvSpPr>
        <p:spPr>
          <a:xfrm>
            <a:off x="1619280" y="2492280"/>
            <a:ext cx="18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IN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I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ELET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aixaDeTexto 11"/>
          <p:cNvSpPr/>
          <p:nvPr/>
        </p:nvSpPr>
        <p:spPr>
          <a:xfrm>
            <a:off x="1258920" y="465300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Solicitação a algumas entidades de posicionamento sobre os padrões de rádio dig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aixaDeTexto 15"/>
          <p:cNvSpPr/>
          <p:nvPr/>
        </p:nvSpPr>
        <p:spPr>
          <a:xfrm>
            <a:off x="3564000" y="2492280"/>
            <a:ext cx="180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EB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D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Ibi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aixaDeTexto 16"/>
          <p:cNvSpPr/>
          <p:nvPr/>
        </p:nvSpPr>
        <p:spPr>
          <a:xfrm>
            <a:off x="5724360" y="2492280"/>
            <a:ext cx="18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Tell 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D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C/S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C/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B377-0407-4854-85CE-E033F0FA335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84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85" name="CaixaDeTexto 12"/>
          <p:cNvSpPr/>
          <p:nvPr/>
        </p:nvSpPr>
        <p:spPr>
          <a:xfrm>
            <a:off x="1763640" y="103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Relató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tângulo de cantos arredondados 13"/>
          <p:cNvSpPr/>
          <p:nvPr/>
        </p:nvSpPr>
        <p:spPr>
          <a:xfrm>
            <a:off x="503280" y="1700280"/>
            <a:ext cx="8137440" cy="3744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aixaDeTexto 14"/>
          <p:cNvSpPr/>
          <p:nvPr/>
        </p:nvSpPr>
        <p:spPr>
          <a:xfrm>
            <a:off x="928800" y="2898720"/>
            <a:ext cx="292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Técn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Econôm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aixaDeTexto 17"/>
          <p:cNvSpPr/>
          <p:nvPr/>
        </p:nvSpPr>
        <p:spPr>
          <a:xfrm>
            <a:off x="4067280" y="2924280"/>
            <a:ext cx="446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Custo/Prazo de Implantação de uma rádio comercial padr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Proposta de ação para tratar do passivo de receptores analógicos e custos envolvid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Proposta de desenvolvimento tecnológico no paí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Fabricantes interessados em utilizar o padr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Radiodifusores interessados em utilizar o padr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Opções de plano de negócios para os fabricant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Opções de  plano de negócios para cada tipo de radiodifuso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aixaDeTexto 18"/>
          <p:cNvSpPr/>
          <p:nvPr/>
        </p:nvSpPr>
        <p:spPr>
          <a:xfrm>
            <a:off x="2771640" y="18241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Informações solicitadas às entid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tângulo 1"/>
          <p:cNvSpPr/>
          <p:nvPr/>
        </p:nvSpPr>
        <p:spPr>
          <a:xfrm>
            <a:off x="3360600" y="239544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Visão acerca dos padrõ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8F0F-69F9-4E6D-9F4E-038FB39D567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96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97" name="CaixaDeTexto 12"/>
          <p:cNvSpPr/>
          <p:nvPr/>
        </p:nvSpPr>
        <p:spPr>
          <a:xfrm>
            <a:off x="1763640" y="1197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Posicionamento das ent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tângulo de cantos arredondados 9"/>
          <p:cNvSpPr/>
          <p:nvPr/>
        </p:nvSpPr>
        <p:spPr>
          <a:xfrm>
            <a:off x="755640" y="1916280"/>
            <a:ext cx="7632720" cy="3528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aixaDeTexto 2"/>
          <p:cNvSpPr/>
          <p:nvPr/>
        </p:nvSpPr>
        <p:spPr>
          <a:xfrm>
            <a:off x="1116000" y="20606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Parte das entidades ainda não se posiciona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Entre as entidades que apresentaram posicionamento, apontamos alguns tópicos a serem considerad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aixaDeTexto 6"/>
          <p:cNvSpPr/>
          <p:nvPr/>
        </p:nvSpPr>
        <p:spPr>
          <a:xfrm>
            <a:off x="1116000" y="292104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Cronograma de implantação do novo padrão, para que todos envolvidos  possam cumprir suas respectivas etap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O padrão não deve ser híbrido, visando permitir  a exportação dos transmissores e proporcionar uma melhor escala econômica e precificação para o mercado consumid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Solicitação de estudos sobre a digitalização da faixa de frequência de Ondas Cur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D6CC-BB78-4FCD-8597-7F3CCA0AD23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1"/>
          <p:cNvSpPr/>
          <p:nvPr/>
        </p:nvSpPr>
        <p:spPr>
          <a:xfrm>
            <a:off x="1224000" y="180504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DRM e Tell H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tângulo de cantos arredondados 9"/>
          <p:cNvSpPr/>
          <p:nvPr/>
        </p:nvSpPr>
        <p:spPr>
          <a:xfrm>
            <a:off x="1224000" y="2540160"/>
            <a:ext cx="6696000" cy="18968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aixaDeTexto 2"/>
          <p:cNvSpPr/>
          <p:nvPr/>
        </p:nvSpPr>
        <p:spPr>
          <a:xfrm>
            <a:off x="1511280" y="26258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Ambas as entidades enviaram informações acerca de mercado, custos e prazos de implantação e plano de negócio para a digitalização do rád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Essas informações estão sendo avaliad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aixaDeTexto 15"/>
          <p:cNvSpPr/>
          <p:nvPr/>
        </p:nvSpPr>
        <p:spPr>
          <a:xfrm>
            <a:off x="1763640" y="1197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Posicionamento das ent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94B6-5AE2-4B3D-BB75-D38336C95F9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116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117" name="CaixaDeTexto 12"/>
          <p:cNvSpPr/>
          <p:nvPr/>
        </p:nvSpPr>
        <p:spPr>
          <a:xfrm>
            <a:off x="1763640" y="13939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Encaminha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tângulo de cantos arredondados 9"/>
          <p:cNvSpPr/>
          <p:nvPr/>
        </p:nvSpPr>
        <p:spPr>
          <a:xfrm>
            <a:off x="1224000" y="2565360"/>
            <a:ext cx="6696000" cy="17524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aixaDeTexto 2"/>
          <p:cNvSpPr/>
          <p:nvPr/>
        </p:nvSpPr>
        <p:spPr>
          <a:xfrm>
            <a:off x="1511280" y="2732040"/>
            <a:ext cx="61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A coordenação do subgrupo CCRD1 irá consolidar todos os posicionamentos das entidades e formulará suas considerações acerca do padrão a ser adot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Será realizada reunião para apresentar o relatório final ao subgrup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3B60-D041-497B-9D2F-3D9F27AAF79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125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126" name="CaixaDeTexto 12"/>
          <p:cNvSpPr/>
          <p:nvPr/>
        </p:nvSpPr>
        <p:spPr>
          <a:xfrm>
            <a:off x="1763640" y="24336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Obriga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tângulo 11"/>
          <p:cNvSpPr/>
          <p:nvPr/>
        </p:nvSpPr>
        <p:spPr>
          <a:xfrm>
            <a:off x="3490920" y="5157720"/>
            <a:ext cx="21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f7f7f"/>
                </a:solidFill>
                <a:latin typeface="Calibri"/>
              </a:rPr>
              <a:t>Brasília, fevereiro de 201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21:36:32Z</dcterms:created>
  <dc:creator>Rafael Andrade Reis de Araújo</dc:creator>
  <dc:description/>
  <dc:language>en-US</dc:language>
  <cp:lastModifiedBy>Otavio Viegas Caixeta</cp:lastModifiedBy>
  <dcterms:modified xsi:type="dcterms:W3CDTF">2013-02-28T17:23:26Z</dcterms:modified>
  <cp:revision>37</cp:revision>
  <dc:subject/>
  <dc:title>Apresentação do PowerPoint</dc:title>
</cp:coreProperties>
</file>