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18BC-D24D-429E-AB56-AE4786BFC34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B57D-C5DF-450F-AB4D-22C7F829096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1C94-1103-4CA8-95D7-B4BA3372640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BC9-EB76-4193-A082-836AADEA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D4C-2659-47B2-8B6E-4D3D9F45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445-7F98-4ED1-9C0F-B84CAD9E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5AE-7606-4DCC-9928-034602B8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27C-2B43-41A9-8613-21A0BE12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DF39-2787-4B01-8CB8-84E5F8D9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590B-53CA-4ADB-A174-E92D659B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E74-D52A-4584-88BA-A5D66F62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4882-8671-41F7-B42F-8A6EFE2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992D-891F-4C54-978C-C367729B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87C4-1708-4204-B9DB-F0BCDA1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A35-CC5B-4A6E-ACEA-C78D8E5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B4E5-EA20-4CAC-A0AA-5A866722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748B-558C-4E78-B55B-BA413052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CF28-C4B2-4F44-B176-12524EB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CCE-958D-4C27-B037-395983A3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268D-92DF-424B-92ED-DF80DC0A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1CD-5313-4058-98DD-15F6D0C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A07-AC24-46E7-BE18-E20213AC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7D2-C3F8-4DC5-9405-B8985093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8EA-81FB-4B18-8406-51FF5C2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D9C-2ACA-461A-8C3F-8F2BB7B0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261-1454-4665-92BE-349FC756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44C-0C80-453F-B215-0905739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F23E-C8C2-4E5E-9195-3276ADBF8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3CF-F5C4-4762-B97F-F794C4B48BD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5" descr="HD PPT - Background-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Broadcast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on Information Service (SIS) carries identifier of GINGA service avail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Information Guide (SIG) identifies the details of the GINGA service for rendering on rece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SAC interface to translation layer of DSM-CC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143000" y="849240"/>
          <a:ext cx="7162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49240"/>
                    <a:ext cx="7162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Receiver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D Radio™ decoder manages reception of various data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NGA application runs on host microprocessor to interface data object to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Service Processor (RSP) accesses relevant transport protocols to identify GINGA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1066680" y="914400"/>
          <a:ext cx="67820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7820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9:25:16Z</dcterms:created>
  <dc:creator>Detweiler, Jeff</dc:creator>
  <dc:description/>
  <dc:language>en-US</dc:language>
  <cp:lastModifiedBy>Rafael Leal da Silva</cp:lastModifiedBy>
  <dcterms:modified xsi:type="dcterms:W3CDTF">2013-03-08T14:37:5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fhNWTeX0x1jltHSioH9jxsbhABX-eFxEXphIEyfCwI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05762456327685541730</vt:lpwstr>
  </property>
  <property fmtid="{D5CDD505-2E9C-101B-9397-08002B2CF9AE}" pid="6" name="Google.Documents.Tracking">
    <vt:lpwstr>true</vt:lpwstr>
  </property>
</Properties>
</file>