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5145088"/>
  <p:notesSz cx="68072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07240" cy="9906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33">
                <a:moveTo>
                  <a:pt x="5" y="0"/>
                </a:moveTo>
                <a:arcTo wR="5" hR="5" stAng="16200000" swAng="-5400000"/>
                <a:lnTo>
                  <a:pt x="0" y="31428"/>
                </a:lnTo>
                <a:arcTo wR="5" hR="5" stAng="10800000" swAng="-5400000"/>
                <a:lnTo>
                  <a:pt x="21595" y="314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07240" cy="9906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33">
                <a:moveTo>
                  <a:pt x="5" y="0"/>
                </a:moveTo>
                <a:arcTo wR="5" hR="5" stAng="16200000" swAng="-5400000"/>
                <a:lnTo>
                  <a:pt x="0" y="31428"/>
                </a:lnTo>
                <a:arcTo wR="5" hR="5" stAng="10800000" swAng="-5400000"/>
                <a:lnTo>
                  <a:pt x="21595" y="314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07240" cy="9906120"/>
          </a:xfrm>
          <a:custGeom>
            <a:avLst/>
            <a:gdLst>
              <a:gd name="textAreaLeft" fmla="*/ 360 w 6807240"/>
              <a:gd name="textAreaRight" fmla="*/ 6806880 w 68072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33">
                <a:moveTo>
                  <a:pt x="5" y="0"/>
                </a:moveTo>
                <a:arcTo wR="5" hR="5" stAng="16200000" swAng="-5400000"/>
                <a:lnTo>
                  <a:pt x="0" y="31428"/>
                </a:lnTo>
                <a:arcTo wR="5" hR="5" stAng="10800000" swAng="-5400000"/>
                <a:lnTo>
                  <a:pt x="21595" y="314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854520" y="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03320" y="743040"/>
            <a:ext cx="6594480" cy="371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79320" y="4706640"/>
            <a:ext cx="5440320" cy="4452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941076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57B5A677-4902-424E-8485-2BD0A853EBE0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95D3A1EF-3F18-417D-A843-F5852705F33A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1A7EC-B50B-4D64-BD8A-6B13C82CF4FA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C9D7DFB6-18B3-43D7-BB05-FC9F5D206382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195FE-355B-462C-98A7-559836362D4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9EF55BA3-99A1-411E-8809-87762C0FDF65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AB62A-A3C5-4C37-BA56-D53034B3655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0AD80A90-0D8C-4A2A-A5E3-4202DB889FD9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44C44-F415-48D8-B85F-CF6492C30E5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A31D64D2-34EA-4624-9B97-B401987EBDC1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FCB4A-645C-4309-B078-7FC0477D278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E76E4942-E1A6-4E2D-B095-1A51541A9C3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1EEF8-645E-4D71-B943-ACCF98CA84E5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D3C5DBF4-2A9F-46B4-8EE7-E28D5CB73189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5394B-75BC-44EA-B79C-B5B23638C02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B3B5B1DA-8E29-4081-86DA-70F20320253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40BFB-B5A4-45B1-A332-97AC99DF2EC6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3CE39BE6-40D2-42AC-8360-42EF2B6123A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82521-9FF6-4A28-81A7-2861349E7071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E80D6A7E-960B-4C02-8E7F-4514D3B05B5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ED22E-D03A-47E8-9E79-3F6CD258BE3E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B3C11499-9EE2-48E3-B890-2C2BDA2E1ADB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E4A03-1819-4A7F-9B17-02F8D078A7E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041FAABF-89E5-4E57-98ED-21CCD5242CF2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EFFCF-C563-4849-BCB8-4C958718EA9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4F7ADD78-BD02-4E8B-B21E-BD744D60CCF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64F9C-9AAC-4DE8-9EDD-39C631F2F911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B8C89A89-7DF4-41DE-AA1C-AAF039B8A733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2DEAB-0C71-40A4-90C0-42CD98C22832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9"/>
          <p:cNvSpPr/>
          <p:nvPr/>
        </p:nvSpPr>
        <p:spPr>
          <a:xfrm>
            <a:off x="3854520" y="9410760"/>
            <a:ext cx="2944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5840"/>
                <a:tab algn="l" pos="1374840"/>
                <a:tab algn="l" pos="1835280"/>
                <a:tab algn="l" pos="2293920"/>
                <a:tab algn="l" pos="2752560"/>
                <a:tab algn="l" pos="3213000"/>
                <a:tab algn="l" pos="3672000"/>
                <a:tab algn="l" pos="4130640"/>
                <a:tab algn="l" pos="4591080"/>
                <a:tab algn="l" pos="5049720"/>
                <a:tab algn="l" pos="5508720"/>
                <a:tab algn="l" pos="5969160"/>
                <a:tab algn="l" pos="6427800"/>
                <a:tab algn="l" pos="6886440"/>
                <a:tab algn="l" pos="7345440"/>
                <a:tab algn="l" pos="7805880"/>
                <a:tab algn="l" pos="8264520"/>
                <a:tab algn="l" pos="872316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fld id="{63B8360F-7015-44F1-B9A0-09069256CE9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"/>
          <p:cNvSpPr/>
          <p:nvPr/>
        </p:nvSpPr>
        <p:spPr>
          <a:xfrm>
            <a:off x="3854520" y="941076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05D5E-A0CA-456C-AB2F-D753CDA27036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1520" y="743040"/>
            <a:ext cx="6602400" cy="37162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07000"/>
            <a:ext cx="544680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DABB9-9B33-473B-B313-F821CD7CE7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41172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84D4E-45CE-4A27-B8AB-CF60B9DF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14E9D-CFEC-4D9C-8A34-2DFCA7E7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20024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20024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411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411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411720"/>
            <a:ext cx="264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EBF96-6A1F-4711-8888-13021E7450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200240"/>
            <a:ext cx="822492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5BBA0-0F20-4BC9-A2F6-F882FB6D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82249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4E0CD-863E-4CD9-9FD3-BCB14E51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6C1F4-4706-427A-8DFC-B7AACCDA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7ADB8-1E62-48A3-8699-26B05E33F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8244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DAD2B-76E6-4275-8389-2A0E7A184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0DF15-26BC-41DB-B46E-EFF404CC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41172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28E0E-39D4-4A19-BB6A-739FE250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200240"/>
            <a:ext cx="4013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411720"/>
            <a:ext cx="8224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BA710-BCF2-4CBF-B6AB-5F255D31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8244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00240"/>
            <a:ext cx="82249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18160"/>
            <a:ext cx="21286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17/07/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47196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4718160"/>
            <a:ext cx="2129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D9C3539-E3E1-4DD6-8EF1-82D22EB7FF48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928880" y="22147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1e9d1e"/>
                </a:solidFill>
                <a:latin typeface="Arial"/>
                <a:ea typeface="Arial"/>
              </a:rPr>
              <a:t>Conselho Consultivo de Rádio Dig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928800" y="1643040"/>
            <a:ext cx="73580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Política industrial - Debate de questões relativas à produção de equipamentos para rádio digital, com o objetivo de apresentar um relatório indicando as necessidades para viabilizar a produção nacional desses equipamentos, os prazos envolvidos e uma estimativa dos recursos necessári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900000" y="11318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Proposta de Comissões Técnicas no CCRD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7B967-4DA3-4FA3-91EB-07D69E6AF61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928800" y="1643040"/>
            <a:ext cx="735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Inovação tecnológica – Mapeamento dos serviços, aplicativos e avanços recentes em ambos os sistemas, de projetos e iniciativas acadêmicas e das modificações necessárias para adequação do sistema às peculiaridades d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900000" y="11318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Proposta de Comissões Técnicas no CCRD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5F9806-0047-4516-B9CE-26B8EA9C90F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928800" y="1643040"/>
            <a:ext cx="73580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366ff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Análise e acompanhamento dos testes técnicos – Estudo dos testes técnicos realizados – e que porventura venham ainda a ser realizados – pelo MC e por outras entidades e interpretação dos seus resultad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900000" y="113184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Proposta de Comissões Técnicas no CCRD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AB9B4-62AF-404D-AD1F-4AAFDBF9875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928800" y="1643040"/>
            <a:ext cx="7358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1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ª Reunião: Apresentação dos trabalhos até o presente, criação das comissões temáticas e informe sobre os relatórios dos test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2ª Reunião (manhã e tarde): 28/11/2012 – Debate com MC e Inmetro sobre os relatórios dos test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Cronograma proposto para 2012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E5961-F24E-4C10-9977-B5D7EF5139B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928800" y="1643040"/>
            <a:ext cx="7358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3ª Reunião (manhã e tarde): 7/12/2012 – Debate com representantes dos padrões DRM e HD Radio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4ª Reunião (manhã): 13/12/2012 – Apresentação de estudo com diagnóstico sobre o rádio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4ª Reunião (tarde): 13/12/2012 – Discussão sobre questões levantadas nos debates anterior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Cronograma proposto para 2012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C3A88-1DF7-4B53-874A-C06B9EB81D0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928800" y="1643040"/>
            <a:ext cx="7358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Apresentação dos primeiros resultados das comissões técnica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Apresentação de outros estudos realizados por pesquisadores; 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2966ba"/>
                </a:solidFill>
                <a:latin typeface="Calibri"/>
              </a:rPr>
              <a:t>Continuação dos debates sobre as questões levantadas pelas comissões técnic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Reuniões de 20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7EA96-9860-4F6F-B03C-EB781545CD2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900000" y="1685880"/>
            <a:ext cx="73580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Criado pela Portaria nº 365/12 para “assessorar o Ministro de Estado das Comunicações na implantação do Rádio Digital no Brasil”;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Integrado por 19 conselheiros, sendo 7 representantes de órgãos/entidades públicos, 2 parlamentares, 7 entidades representativas do setor de radiodifusão; e 3 do setor industr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Conselho Consultivo do Rádio Dig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A90249-6B12-487A-B6EB-48B85897BA4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900000" y="1685880"/>
            <a:ext cx="73580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Serviços e aplicativos a serem agregados ao áudio transmitid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Política industrial para a produção de equipamento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Gestão do espectr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Transmissão simultânea dos sinais analógico e digital;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Escolha do padrão tecnológico de rádio digi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900000" y="1131840"/>
            <a:ext cx="61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Questões a serem discuti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F76F6-8EA2-4C35-BBF3-B4D8225AC4E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00000" y="1685880"/>
            <a:ext cx="73580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Edital de 13 de junho de 2011 convidou sistemas de rádio digital a se candidatarem a testes no Brasi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Dois sistemas se apresentaram: DRM e HD Radi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Já haviam sido realizados testes anteriores, aos quais se somaram novos testes com os dois sistem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900000" y="1131840"/>
            <a:ext cx="61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Chamamento público para escolha do sist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806F5-3511-427C-B7BA-6ABB2942AB4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00000" y="1131840"/>
            <a:ext cx="61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Testes realizados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3C8414-F620-4677-9A8A-5B5FFB6B396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Object 2"/>
          <p:cNvGraphicFramePr/>
          <p:nvPr/>
        </p:nvGraphicFramePr>
        <p:xfrm>
          <a:off x="785880" y="1643040"/>
          <a:ext cx="7596000" cy="309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5880" y="1643040"/>
                    <a:ext cx="7596000" cy="30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900000" y="1131840"/>
            <a:ext cx="61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Testes realizados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6ED87-C3FC-4CE0-8540-39338B92817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857160" y="1928880"/>
          <a:ext cx="7596360" cy="209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7160" y="1928880"/>
                    <a:ext cx="759636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900000" y="1131840"/>
            <a:ext cx="61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Testes realizado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4BCAE-3750-49B1-A73C-47547217FBE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28800" y="1714680"/>
          <a:ext cx="7572240" cy="2616120"/>
        </p:xfrm>
        <a:graphic>
          <a:graphicData uri="http://schemas.openxmlformats.org/drawingml/2006/table">
            <a:tbl>
              <a:tblPr/>
              <a:tblGrid>
                <a:gridCol w="1355760"/>
                <a:gridCol w="1707840"/>
                <a:gridCol w="2254320"/>
                <a:gridCol w="2254320"/>
              </a:tblGrid>
              <a:tr h="190440">
                <a:tc row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sília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dio Comunitária do Recanto das Ema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al Analógic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/Ju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M+ (baixa potênci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 rowSpan="4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Paul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BN A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al Analógic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/Ju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D A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800">
                <a:tc row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Paulo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ltura F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al Analógic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D F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Testes realizados - compara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DB852-352A-4263-8A3E-9CAA3F2799C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28800" y="1643040"/>
          <a:ext cx="7500960" cy="2928960"/>
        </p:xfrm>
        <a:graphic>
          <a:graphicData uri="http://schemas.openxmlformats.org/drawingml/2006/table">
            <a:tbl>
              <a:tblPr/>
              <a:tblGrid>
                <a:gridCol w="1403280"/>
                <a:gridCol w="2031840"/>
                <a:gridCol w="2033640"/>
                <a:gridCol w="2032200"/>
              </a:tblGrid>
              <a:tr h="55548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lidad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issor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tema DR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tema HD Radi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ão Paul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BN A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/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/Jul 2012          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 Horizonte*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FM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v/Mar 2010      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Maio 2012        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 Horizonte*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tia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/Maio 2010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/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sília*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dio Comunitária do Recanto das Ema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/Jul 2012              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/Jun 2012          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1"/>
          <p:cNvSpPr/>
          <p:nvPr/>
        </p:nvSpPr>
        <p:spPr>
          <a:xfrm>
            <a:off x="428760" y="700200"/>
            <a:ext cx="8286480" cy="1440"/>
          </a:xfrm>
          <a:prstGeom prst="line">
            <a:avLst/>
          </a:prstGeom>
          <a:ln w="6480">
            <a:solidFill>
              <a:srgbClr val="2966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2"/>
          <p:cNvSpPr/>
          <p:nvPr/>
        </p:nvSpPr>
        <p:spPr>
          <a:xfrm>
            <a:off x="428760" y="739800"/>
            <a:ext cx="8286480" cy="1440"/>
          </a:xfrm>
          <a:prstGeom prst="line">
            <a:avLst/>
          </a:prstGeom>
          <a:ln w="6480">
            <a:solidFill>
              <a:srgbClr val="1e9d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627280" y="700200"/>
            <a:ext cx="3889440" cy="28728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428760" y="4857840"/>
            <a:ext cx="8286480" cy="285840"/>
          </a:xfrm>
          <a:prstGeom prst="rect">
            <a:avLst/>
          </a:prstGeom>
          <a:solidFill>
            <a:srgbClr val="1e9d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627280" y="7002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cretaria de Serviços de Comunicação Eletrô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928800" y="1643040"/>
            <a:ext cx="735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Sistematizados pelo Inmetr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Consolidam as medições de campo dos testes realizados, quando válidas tecnicamente;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966ba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2966ba"/>
                </a:solidFill>
                <a:latin typeface="Calibri"/>
              </a:rPr>
              <a:t>A serem disponibilizados no site do M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900000" y="11318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966ba"/>
                </a:solidFill>
                <a:latin typeface="Calibri"/>
              </a:rPr>
              <a:t>Relatórios dos tes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8" descr=""/>
          <p:cNvPicPr/>
          <p:nvPr/>
        </p:nvPicPr>
        <p:blipFill>
          <a:blip r:embed="rId1"/>
          <a:stretch/>
        </p:blipFill>
        <p:spPr>
          <a:xfrm>
            <a:off x="7383600" y="214200"/>
            <a:ext cx="1322280" cy="393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9"/>
          <p:cNvSpPr/>
          <p:nvPr/>
        </p:nvSpPr>
        <p:spPr>
          <a:xfrm>
            <a:off x="2428920" y="285840"/>
            <a:ext cx="428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1e9d1e"/>
                </a:solidFill>
                <a:latin typeface="Arial"/>
                <a:ea typeface="Arial"/>
              </a:rPr>
              <a:t>Ministério das Comunicaçõ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7010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9F589-A519-40CB-AA8D-4BCF21D0FF2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8:00:26Z</dcterms:created>
  <dc:creator>pericles.teodoro</dc:creator>
  <dc:description/>
  <dc:language>en-US</dc:language>
  <cp:lastModifiedBy>octavio.pieranti</cp:lastModifiedBy>
  <cp:lastPrinted>2012-07-19T13:46:11Z</cp:lastPrinted>
  <dcterms:modified xsi:type="dcterms:W3CDTF">2012-10-23T16:29:51Z</dcterms:modified>
  <cp:revision>183</cp:revision>
  <dc:subject/>
  <dc:title>Slide 1</dc:title>
</cp:coreProperties>
</file>