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5145088"/>
  <p:notesSz cx="68072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07240" cy="9906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33">
                <a:moveTo>
                  <a:pt x="5" y="0"/>
                </a:moveTo>
                <a:arcTo wR="5" hR="5" stAng="16200000" swAng="-5400000"/>
                <a:lnTo>
                  <a:pt x="0" y="31428"/>
                </a:lnTo>
                <a:arcTo wR="5" hR="5" stAng="10800000" swAng="-5400000"/>
                <a:lnTo>
                  <a:pt x="21595" y="314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07240" cy="9906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33">
                <a:moveTo>
                  <a:pt x="5" y="0"/>
                </a:moveTo>
                <a:arcTo wR="5" hR="5" stAng="16200000" swAng="-5400000"/>
                <a:lnTo>
                  <a:pt x="0" y="31428"/>
                </a:lnTo>
                <a:arcTo wR="5" hR="5" stAng="10800000" swAng="-5400000"/>
                <a:lnTo>
                  <a:pt x="21595" y="314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07240" cy="9906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33">
                <a:moveTo>
                  <a:pt x="5" y="0"/>
                </a:moveTo>
                <a:arcTo wR="5" hR="5" stAng="16200000" swAng="-5400000"/>
                <a:lnTo>
                  <a:pt x="0" y="31428"/>
                </a:lnTo>
                <a:arcTo wR="5" hR="5" stAng="10800000" swAng="-5400000"/>
                <a:lnTo>
                  <a:pt x="21595" y="314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854520" y="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03320" y="743040"/>
            <a:ext cx="659448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79320" y="4706640"/>
            <a:ext cx="5440320" cy="4452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941076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A042B0FA-96F7-49DE-909D-787193DE98F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3E7B9996-C41F-40EA-B4B8-F61879638D3A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1749C-369E-4028-9115-A393B7D3235A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F740B03A-6025-4C57-982C-0B018EB20DE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7485A-FF20-4E0E-BED3-F8B77B4185BC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15F19FE7-474A-476E-9093-66DCCE73FF3A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A1C8A-4D81-44CA-AC53-058BE899C01C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1B6A215A-FC55-43EA-A3FB-8C7913D46148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50568-65A2-4009-ACBF-C1EF268E742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AC8C1A11-537A-46EF-B553-097FE1DDCC61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B2905-EEB6-4404-B5AD-75FBEBE75D41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A91CA209-42C0-4C48-9C85-7A56195ECE8A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3B5B1-C15E-4560-B3EA-8ABE52936C4C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510803FE-025D-4A65-8321-A9D20BF3D262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48708-C03C-43B6-8BC2-7ED897B4DAB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5AC1E182-194A-4765-8093-6EEA7251FDC1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A07B1-D682-468C-872F-AE4DAC29E2A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2A83AE1A-FF95-4DCD-845D-E98A6DA1047E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2C504-6DAA-4EF0-9A29-840E56CD6E58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3E2C368F-CD51-43B2-8733-0AB6C30CA5A2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12F1F-CC75-46B8-8072-3AE2DB031F38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3339EB36-C31F-43E2-ACB4-4451905BD421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66A98-6FB8-406F-A819-127AE43FB8B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01B91707-C396-4E1C-8151-20387F00D17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7CF03-2E5A-497D-8ABF-42A78EAB7D9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4DEC36F2-322A-4DDC-867F-15FCCF203C55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4CB5F-47D2-4042-B1F3-F89CFCD4E26A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2C2AE6C8-EE1B-4866-9DFC-B7A706210988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B8809-2F41-4C2E-B326-21F33F288971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5963E479-5BF6-48FD-9F41-616207C6FC4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81F48-DE1C-43CD-9910-C47B924CCBD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A71F3-A869-4839-A937-ACF4D8D0CC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41172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51E6D-7D87-443B-AD4B-C7844A82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5B458-FFCE-4091-BD36-360397F2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20024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20024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411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411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411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FDD5E-7392-4C50-A538-D8718AE028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200240"/>
            <a:ext cx="822492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777AD-8B6E-48CB-8C7F-BAC71BB7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2249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B57A6-2F7D-4A1E-8B5C-ABFE14AD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90086-FD54-4D26-B08F-7A436CEC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71611-A934-4A0D-B0F1-0F82EEB0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8244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5A4EF-DE74-4887-9A24-3348D256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0D8C0-E005-4C1D-8A66-13AC6730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CBF98-56B0-4E60-BBDB-C53A1E12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41172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DFE31-EE44-49BA-988B-0722FC61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00240"/>
            <a:ext cx="82249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18160"/>
            <a:ext cx="21286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17/07/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47196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4718160"/>
            <a:ext cx="2129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F25F784-DB3B-405A-82AC-6A14B322DFEC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928880" y="22147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1e9d1e"/>
                </a:solidFill>
                <a:latin typeface="Arial"/>
                <a:ea typeface="Arial"/>
              </a:rPr>
              <a:t>Conselho Consultivo de Rádio Dig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928800" y="1643040"/>
            <a:ext cx="73580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Política industrial - Debate de questões relativas à produção de equipamentos para rádio digital, com o objetivo de apresentar um relatório indicando as necessidades para viabilizar a produção nacional desses equipamentos, os prazos envolvidos e uma estimativa dos recursos necessári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900000" y="11318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Proposta de Comissões Técnicas no CCRD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C22AE-C76A-4835-AC7C-57CF5A89E61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928800" y="1643040"/>
            <a:ext cx="735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Inovação tecnológica – Mapeamento dos serviços, aplicativos e avanços recentes em ambos os sistemas, de projetos e iniciativas acadêmicas e das modificações necessárias para adequação do sistema às peculiaridades d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900000" y="11318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Proposta de Comissões Técnicas no CCRD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000D0-17E5-4D04-8C8A-E7147DA48BE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928800" y="1643040"/>
            <a:ext cx="73580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Análise e acompanhamento dos testes técnicos – Estudo dos testes técnicos realizados – e que porventura venham ainda a ser realizados – pelo MC e por outras entidades e interpretação dos seus resultad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900000" y="11318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Proposta de Comissões Técnicas no CCRD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D9FD5-0086-457F-9021-B400AB79345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928800" y="1643040"/>
            <a:ext cx="7358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1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ª Reunião: Apresentação dos trabalhos até o presente, criação das comissões temáticas e informe sobre os relatórios dos test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2ª Reunião (manhã e tarde): 28/11/2012 – Debate com MC e Inmetro sobre os relatórios dos test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Cronograma proposto para 2012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910A1-527C-4882-A620-C41B4589BAB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928800" y="1643040"/>
            <a:ext cx="7358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3ª Reunião (manhã e tarde): 7/12/2012 – Debate com representantes dos padrões DRM e HD Radio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4ª Reunião (manhã): 13/12/2012 – Apresentação de estudo com diagnóstico sobre o rádio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4ª Reunião (tarde): 13/12/2012 – Discussão sobre questões levantadas nos debates anterior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Cronograma proposto para 2012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4C3D7-3978-40A2-BF17-556227A6A31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928800" y="1643040"/>
            <a:ext cx="7358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Apresentação dos primeiros resultados das comissões técnica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Apresentação de outros estudos realizados por pesquisadores; 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Continuação dos debates sobre as questões levantadas pelas comissões técnic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Reuniões de 20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837E3-5A5D-4AFC-9FBC-FA68FFE1D23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900000" y="1685880"/>
            <a:ext cx="73580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Criado pela Portaria nº 365/12 para “assessorar o Ministro de Estado das Comunicações na implantação do Rádio Digital no Brasil”;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Integrado por 19 conselheiros, sendo 7 representantes de órgãos/entidades públicos, 2 parlamentares, 7 entidades representativas do setor de radiodifusão; e 3 do setor industr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Conselho Consultivo do Rádio Dig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82050-23FE-4BED-B051-25FE3201010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900000" y="1685880"/>
            <a:ext cx="73580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Serviços e aplicativos a serem agregados ao áudio transmitid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Política industrial para a produção de equipamento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Gestão do espectr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Transmissão simultânea dos sinais analógico e digital;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Escolha do padrão tecnológico de rádio digi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900000" y="113184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Questões a serem discut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15C0A-9DF9-4B65-BDC6-40B6E0DD67E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00000" y="1685880"/>
            <a:ext cx="73580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Edital de 13 de junho de 2011 convidou sistemas de rádio digital a se candidatarem a testes no Brasi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Dois sistemas se apresentaram: DRM e HD Radi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Já haviam sido realizados testes anteriores, aos quais se somaram novos testes com os dois sistem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900000" y="113184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Chamamento público para escolha do sist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B56EC-5D8D-4809-AAB7-7979F2DEF92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00000" y="113184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estes realizados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46B70-6AAB-472C-9F8D-9661AFBA671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Object 2"/>
          <p:cNvGraphicFramePr/>
          <p:nvPr/>
        </p:nvGraphicFramePr>
        <p:xfrm>
          <a:off x="785880" y="1643040"/>
          <a:ext cx="7596000" cy="309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5880" y="1643040"/>
                    <a:ext cx="7596000" cy="30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900000" y="113184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estes realizados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C2F40-5B62-4B73-A8B8-A9A4201B5B9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857160" y="1928880"/>
          <a:ext cx="7596360" cy="209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7160" y="1928880"/>
                    <a:ext cx="759636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900000" y="113184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estes realizado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3C16C-33FA-4DD4-A5E0-BBEF66A4A25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28800" y="1714680"/>
          <a:ext cx="7572240" cy="2616120"/>
        </p:xfrm>
        <a:graphic>
          <a:graphicData uri="http://schemas.openxmlformats.org/drawingml/2006/table">
            <a:tbl>
              <a:tblPr/>
              <a:tblGrid>
                <a:gridCol w="1355760"/>
                <a:gridCol w="1707840"/>
                <a:gridCol w="2254320"/>
                <a:gridCol w="2254320"/>
              </a:tblGrid>
              <a:tr h="190440"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sília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dio Comunitária do Recanto das Ema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al Analógic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/Ju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M+ (baixa potênci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 rowSpan="4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Paul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BN A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al Analógic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/Ju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D A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800"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Paulo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ltura F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al Analógic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D F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estes realizados - compara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5086B-05D3-491A-8BD6-DF2237387DA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28800" y="1643040"/>
          <a:ext cx="7500960" cy="2928960"/>
        </p:xfrm>
        <a:graphic>
          <a:graphicData uri="http://schemas.openxmlformats.org/drawingml/2006/table">
            <a:tbl>
              <a:tblPr/>
              <a:tblGrid>
                <a:gridCol w="1403280"/>
                <a:gridCol w="2031840"/>
                <a:gridCol w="2033640"/>
                <a:gridCol w="2032200"/>
              </a:tblGrid>
              <a:tr h="5554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lidad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issor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ma DR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ma HD Radi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Paul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BN A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/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/Jul 2012          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 Horizonte*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FM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/Mar 2010      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Maio 2012        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 Horizonte*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tia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Maio 2010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/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sília*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dio Comunitária do Recanto das Ema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/Jul 2012              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Jun 2012          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928800" y="1643040"/>
            <a:ext cx="735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Sistematizados pelo Inmetr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Consolidam as medições de campo dos testes realizados, quando válidas tecnicamente;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A serem disponibilizados no site do M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Relatórios dos tes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1EAAE-CC0A-4465-B6D0-E0F34E28710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8:00:26Z</dcterms:created>
  <dc:creator>pericles.teodoro</dc:creator>
  <dc:description/>
  <dc:language>en-US</dc:language>
  <cp:lastModifiedBy>octavio.pieranti</cp:lastModifiedBy>
  <cp:lastPrinted>2012-07-19T13:46:11Z</cp:lastPrinted>
  <dcterms:modified xsi:type="dcterms:W3CDTF">2012-10-23T16:29:51Z</dcterms:modified>
  <cp:revision>183</cp:revision>
  <dc:subject/>
  <dc:title>Slide 1</dc:title>
</cp:coreProperties>
</file>